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6.jpeg" ContentType="image/jpeg"/>
  <Override PartName="/ppt/media/image7.jpeg" ContentType="image/jpeg"/>
  <Override PartName="/ppt/media/image10.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6660587-1956-4C82-9D1F-544B2584C73B}"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2080" y="679320"/>
            <a:ext cx="4533840" cy="3400560"/>
          </a:xfrm>
          <a:prstGeom prst="rect">
            <a:avLst/>
          </a:prstGeom>
          <a:ln w="0">
            <a:noFill/>
          </a:ln>
        </p:spPr>
      </p:sp>
      <p:sp>
        <p:nvSpPr>
          <p:cNvPr id="17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MPLEO DE MEDIOS AUDIO 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tos más sentidos logre que utilice la audiencia, más efectiva será su comunicación. Si usted expone, el único sentido que la audiencia estará empleando es la audición. Si usted expone y utiliza medios audiovisuales, la audiencia estará empleando los sentidos de la vista y el oído. Si utiliza una demostración, la audiencia verá, escuchará, tocará, y posiblemente aún podrá oler y probar lo que se present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62080" y="679320"/>
            <a:ext cx="4533840" cy="3400560"/>
          </a:xfrm>
          <a:prstGeom prst="rect">
            <a:avLst/>
          </a:prstGeom>
          <a:ln w="0">
            <a:noFill/>
          </a:ln>
        </p:spPr>
      </p:sp>
      <p:sp>
        <p:nvSpPr>
          <p:cNvPr id="17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utas para el uso de ayu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mplee las ayudas visuales solamente cuando está hablando acerca de ellas</a:t>
            </a:r>
            <a:r>
              <a:rPr b="0" lang="es-ES" sz="1200" spc="-1" strike="noStrike">
                <a:solidFill>
                  <a:srgbClr val="000000"/>
                </a:solidFill>
                <a:latin typeface="Arial"/>
              </a:rPr>
              <a:t>. Los medios visuales compiten con usted por la atención. Cuando usted utiliza una ayuda visual para aclarar o destacar una idea, espera que la atención de la audiencia esté dirigida a la ayuda visual. Por lo tanto, una vez que se aclaró la idea, la atención de la audiencia debiera enfocarse nuevamente en u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ble acerca de la ayuda visual mientras la está mostrando. </a:t>
            </a:r>
            <a:r>
              <a:rPr b="0" lang="es-ES" sz="1200" spc="-1" strike="noStrike">
                <a:solidFill>
                  <a:srgbClr val="000000"/>
                </a:solidFill>
                <a:latin typeface="Arial"/>
              </a:rPr>
              <a:t>No es el propósito que un medio visual se exponga por sí solo. Es necesario explicarle a la audiencia qué mirar y describir lo que ven.  Una vez que ha hecho esto, si le es posible, colóquelo fuera de la vi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ble a la audiencia, no al medio visual. </a:t>
            </a:r>
            <a:r>
              <a:rPr b="0" lang="es-ES" sz="1200" spc="-1" strike="noStrike">
                <a:solidFill>
                  <a:srgbClr val="000000"/>
                </a:solidFill>
                <a:latin typeface="Arial"/>
              </a:rPr>
              <a:t>Uno de los problemas más comunes que se presentan al emplear medios audiovisuales, es el de hablar y mirar lo que se está mostrando, en lugar de dirigirse a la audiencia. Asegúrese de que conoce el contenido de la ayuda visual lo suficientemente bien, como para no tener que estudiarla mientras está haciendo la presentación.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62080" y="679320"/>
            <a:ext cx="4533840" cy="3400560"/>
          </a:xfrm>
          <a:prstGeom prst="rect">
            <a:avLst/>
          </a:prstGeom>
          <a:ln w="0">
            <a:noFill/>
          </a:ln>
        </p:spPr>
      </p:sp>
      <p:sp>
        <p:nvSpPr>
          <p:cNvPr id="17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segúrese de que toda la audiencia puede ver y escuchar el medio audiovisual</a:t>
            </a:r>
            <a:r>
              <a:rPr b="0" lang="es-ES" sz="1200" spc="-1" strike="noStrike">
                <a:solidFill>
                  <a:srgbClr val="000000"/>
                </a:solidFill>
                <a:latin typeface="Arial"/>
              </a:rPr>
              <a:t>. Recuerde que el propósito de un audiovisual es facilitar la comprensión. Por lo tanto, es esencial que todos en la audiencia puedan ver y escuchar lo que se muestra y se d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pase objetos alrededor en la audiencia mientras usted está hablando</a:t>
            </a:r>
            <a:r>
              <a:rPr b="0" lang="es-ES" sz="1200" spc="-1" strike="noStrike">
                <a:solidFill>
                  <a:srgbClr val="000000"/>
                </a:solidFill>
                <a:latin typeface="Arial"/>
              </a:rPr>
              <a:t>. Es tentador para el orador pasar objetos alrededor en la audiencia mientras está hablando. Es algo que debiera evitarse porque distrae a la audiencia, e impide que una o más personas le presten at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actique el uso de la ayuda audiovisual antes de emplearla en una presentación</a:t>
            </a:r>
            <a:r>
              <a:rPr b="0" lang="es-ES" sz="1200" spc="-1" strike="noStrike">
                <a:solidFill>
                  <a:srgbClr val="000000"/>
                </a:solidFill>
                <a:latin typeface="Arial"/>
              </a:rPr>
              <a:t>. Uno de los errores más comunes al emplear ayudas visuales es pensar que puede manejar en forma efectiva el equipo necesario. Aunque la mayoría de los equipos audiovisuales son relativamente fáciles de operar, no desestime los problemas que pueden surgir. Practicar con anticipación es un deber.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2080" y="679320"/>
            <a:ext cx="4533840" cy="3400560"/>
          </a:xfrm>
          <a:prstGeom prst="rect">
            <a:avLst/>
          </a:prstGeom>
          <a:ln w="0">
            <a:noFill/>
          </a:ln>
        </p:spPr>
      </p:sp>
      <p:sp>
        <p:nvSpPr>
          <p:cNvPr id="18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exagere el uso de medios audiovisuales</a:t>
            </a:r>
            <a:r>
              <a:rPr b="0" lang="es-ES" sz="1200" spc="-1" strike="noStrike">
                <a:solidFill>
                  <a:srgbClr val="000000"/>
                </a:solidFill>
                <a:latin typeface="Arial"/>
              </a:rPr>
              <a:t>. No sienta que para aclarar o destacar cada idea que presenta debe hacerlo con una ayuda audiovisual. La audiencia puede llegar a saturarse. </a:t>
            </a:r>
            <a:r>
              <a:rPr b="0" lang="en-US" sz="1200" spc="-1" strike="noStrike">
                <a:solidFill>
                  <a:srgbClr val="000000"/>
                </a:solidFill>
                <a:latin typeface="Arial"/>
              </a:rPr>
              <a:t>Si se utilizan con demasía, podrían resultar  contraproduce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segúrese que coincide el audio con la proyección de imagen</a:t>
            </a:r>
            <a:r>
              <a:rPr b="0" lang="es-ES" sz="1200" spc="-1" strike="noStrike">
                <a:solidFill>
                  <a:srgbClr val="000000"/>
                </a:solidFill>
                <a:latin typeface="Arial"/>
              </a:rPr>
              <a:t>. Para lograrlo necesitará practicar, pero es vital el éxito de su presentación. Esto le dará un mayor impacto al mensaje y le ayudará a la audiencia absorba la información porque estará viendo y escuch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ee la técnica revelación</a:t>
            </a:r>
            <a:r>
              <a:rPr b="0" lang="en-US" sz="1200" spc="-1" strike="noStrike">
                <a:solidFill>
                  <a:srgbClr val="000000"/>
                </a:solidFill>
                <a:latin typeface="Arial"/>
              </a:rPr>
              <a:t>. </a:t>
            </a:r>
            <a:r>
              <a:rPr b="0" lang="es-ES" sz="1200" spc="-1" strike="noStrike">
                <a:solidFill>
                  <a:srgbClr val="000000"/>
                </a:solidFill>
                <a:latin typeface="Arial"/>
              </a:rPr>
              <a:t>Esto es importante cuando se utilizan diapositivas con texto. Si le muestra a la audiencia una diapositiva con seis líneas de texto, desearán leer todo lo que aparece de inmediato. Así, no estarán prestando atención a lo que usted está diciendo. Revele gradualmente la información en la diapositiva, mostrando solamente una línea a la vez, a medida que se va comenta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da arruinará más rápido su credibilidad que  manipular con torpeza el audiovisual. Practique siempre con anticipación, así podrá manejar las cosas con habilidad y confi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invierta todo su tiempo y esfuerzo en las ayudas visuales, corriendo el riesgo de ignorar el hecho de que necesita preparar y practicar su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ntenga contacto visual con la audiencia, y evite la tentación de mirar o leer constantemente lo que está en la pan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haga esperar a la audiencia para llegar a lo más importante. Comience con una  grabación en el momento adecuado y asegúrese que es de la mejor calidad po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se utilizan las ayudas audiovisuales de la forma correcta, pueden transformarse en una gran herramienta, pero recuerde que el cuerpo humano representa probablemente  la ayuda visual más importante y más frecuentemente empleada de todas. Durante su presentación debe hacer gestos, expresiones faciales, y otros movimientos del cuerpo que son efectivos para ayudar a que su mensaje llegue a la audiencia.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62080" y="679320"/>
            <a:ext cx="4533840" cy="3400560"/>
          </a:xfrm>
          <a:prstGeom prst="rect">
            <a:avLst/>
          </a:prstGeom>
          <a:ln w="0">
            <a:noFill/>
          </a:ln>
        </p:spPr>
      </p:sp>
      <p:sp>
        <p:nvSpPr>
          <p:cNvPr id="18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DISEÑAR AYUDAS VISU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a hemos comentado el empleo de audiovisuales y su importancia. También es importante un buen diseño del mensaje. Con el paso de los años, los educadores y comunicadores han diseñado principios que podemos emplear para realzar las ayudas visuales. </a:t>
            </a:r>
            <a:r>
              <a:rPr b="0" lang="en-US" sz="1200" spc="-1" strike="noStrike">
                <a:solidFill>
                  <a:srgbClr val="000000"/>
                </a:solidFill>
                <a:latin typeface="Arial"/>
              </a:rPr>
              <a:t>Los más importantes 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cille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ede parecer obvio, pero la sencillez con creatividad es la clave. </a:t>
            </a:r>
            <a:r>
              <a:rPr b="0" lang="es-ES" sz="1200" spc="-1" strike="noStrike">
                <a:solidFill>
                  <a:srgbClr val="000000"/>
                </a:solidFill>
                <a:latin typeface="Arial"/>
              </a:rPr>
              <a:t>Como regla general  un audiovisual debiera tener: una idea;  no más de ocho puntos; alrededor de seis palabras por línea; mezcla de mayúsculas y minúsculas; tipos de letra simples y claras; y que sean suficientemente grandes para que se puedan leer con facilidad. Esté seguro de evitar decoración innecesaria, elimine bordes demasiado elaborados, y utilice las ilustraciones selectivamente. También, deje mucho espacio en blanco.  Las audiencias podrán tener dificultad para leer, comprender y recordar más que 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mon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lementos de los audiovisuales debieran encajar en una relación armoniosa. Algunos elementos visuales que podrían distraer incluyen: color, presentación, estilos de letra, símbolos visuales, o fondos. No se debieran utilizar más que dos tipos diferentes de letra durante una presentación;  menos que se los necesite para lograr efectos espec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Énf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mpleo de color, flechas, subrayado  y negrita, son medios que se pueden utilizar para enfatizar los elementos más importantes de un audiovisual. Para atraer la atención, los mejores colores son los colores extremos rojos y az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ilbi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letras en el audiovisual deben ser legibles. </a:t>
            </a:r>
            <a:r>
              <a:rPr b="0" lang="es-ES" sz="1200" spc="-1" strike="noStrike">
                <a:solidFill>
                  <a:srgbClr val="000000"/>
                </a:solidFill>
                <a:latin typeface="Arial"/>
              </a:rPr>
              <a:t>Cuando el contenido sugiere una lista, utilice números o viñetas. Se puede mejorar la legibilidad mezclando mayúsculas y minúsculas.</a:t>
            </a:r>
            <a:r>
              <a:rPr b="1"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ÁN RÁPIDO PUEDE LEER 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ÁN RÁPIDO PUEDE LEER EST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62080" y="679320"/>
            <a:ext cx="4533840" cy="3400560"/>
          </a:xfrm>
          <a:prstGeom prst="rect">
            <a:avLst/>
          </a:prstGeom>
          <a:ln w="0">
            <a:noFill/>
          </a:ln>
        </p:spPr>
      </p:sp>
      <p:sp>
        <p:nvSpPr>
          <p:cNvPr id="18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z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á organizado el audiovisual en una forma que sea fácil de cap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lib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án arreglados los elementos del audiovisual de una manera interesante, y que al mismo tiempo no distrai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án organizados los elementos del audiovisual de manera que formen una sola u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obvio el propósito de su audiovisual para la audiencia para quien va dirigido el mensaje?  Divida la información compleja en unidades menores. La información importante debiera presentarse más de una v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PREPARACIÓN Y EMPLEO DE TRANSPARENCIAS/DIAPOSI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que la tendencia actual en el campo de entrenamiento está dirigida hacia empleo de proyectores, los retro proyectores, son utilizados todavía como  el medio más popular de presentaciones. Muchas iglesias, escuelas y locales de entrenamiento cuentan con un retro proyector. Esta sección considerará algunas pautas e ideas para la preparación de transparencias y filminas, y explicará cómo emplearlas efectivamente en las presentacion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2080" y="679320"/>
            <a:ext cx="4533840" cy="3400560"/>
          </a:xfrm>
          <a:prstGeom prst="rect">
            <a:avLst/>
          </a:prstGeom>
          <a:ln w="0">
            <a:noFill/>
          </a:ln>
        </p:spPr>
      </p:sp>
      <p:sp>
        <p:nvSpPr>
          <p:cNvPr id="18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tas para diseñar transparencias/filminas de buena cal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buen uso del espacio en blanco. </a:t>
            </a:r>
            <a:r>
              <a:rPr b="0" lang="en-US" sz="1200" spc="-1" strike="noStrike">
                <a:solidFill>
                  <a:srgbClr val="000000"/>
                </a:solidFill>
                <a:latin typeface="Arial"/>
              </a:rPr>
              <a:t>Utilice márgenes amplios. </a:t>
            </a:r>
            <a:r>
              <a:rPr b="0" lang="es-ES" sz="1200" spc="-1" strike="noStrike">
                <a:solidFill>
                  <a:srgbClr val="000000"/>
                </a:solidFill>
                <a:latin typeface="Arial"/>
              </a:rPr>
              <a:t>No amontone demasiado en una sola filmina o transparencia. Resuma cada idea en una sola filmina, en lugar de dividir una sola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uso moderado del color. Utilícelo para subrayar, enfatizar, y para destacar, pero no lo emplee para lograr un efecto, para una manipulación psicológica, o  para ninguna otra razón, que la llevará a terminar con dificultades para justificarse a sí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er texto está bien; pero hable  acerca de él, no lo l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62080" y="679320"/>
            <a:ext cx="4533840" cy="3400560"/>
          </a:xfrm>
          <a:prstGeom prst="rect">
            <a:avLst/>
          </a:prstGeom>
          <a:ln w="0">
            <a:noFill/>
          </a:ln>
        </p:spPr>
      </p:sp>
      <p:sp>
        <p:nvSpPr>
          <p:cNvPr id="18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ite movimientos, a menos que sea necesario para aclarar un tema. De lo contrario se transformará meramente en una distra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trole la visibilidad desde el fondo del salón. No hay reglas establecidas para el tamaño del frente. </a:t>
            </a:r>
            <a:r>
              <a:rPr b="0" lang="en-US" sz="1200" spc="-1" strike="noStrike">
                <a:solidFill>
                  <a:srgbClr val="000000"/>
                </a:solidFill>
                <a:latin typeface="Arial"/>
              </a:rPr>
              <a:t>¿Por qué? </a:t>
            </a:r>
            <a:r>
              <a:rPr b="0" lang="es-ES" sz="1200" spc="-1" strike="noStrike">
                <a:solidFill>
                  <a:srgbClr val="000000"/>
                </a:solidFill>
                <a:latin typeface="Arial"/>
              </a:rPr>
              <a:t>Porque el tamaño del salón varía de un lugar a otro. Así que, adopte el hábito de revisar la visibilidad de sus medios visuales desde el fondo del sal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reglas generales los tipos de letra como la Times Roman y Courier son más fáciles de leer y debieran emplearse para los textos. Sin embargo, para títulos grandes, los estilos de letra tales como Arial y Helvetica son mejores. No utilice estilos complicados  a menos que formen parte del tema que están presentan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00240" y="679320"/>
            <a:ext cx="4297320" cy="3222720"/>
          </a:xfrm>
          <a:prstGeom prst="rect">
            <a:avLst/>
          </a:prstGeom>
          <a:ln w="0">
            <a:noFill/>
          </a:ln>
        </p:spPr>
      </p:sp>
      <p:sp>
        <p:nvSpPr>
          <p:cNvPr id="191" name="PlaceHolder 2"/>
          <p:cNvSpPr>
            <a:spLocks noGrp="1"/>
          </p:cNvSpPr>
          <p:nvPr>
            <p:ph type="body"/>
          </p:nvPr>
        </p:nvSpPr>
        <p:spPr>
          <a:xfrm>
            <a:off x="685800" y="3971880"/>
            <a:ext cx="5486400" cy="4416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bore diagramas simples. </a:t>
            </a:r>
            <a:r>
              <a:rPr b="0" lang="es-ES" sz="1200" spc="-1" strike="noStrike">
                <a:solidFill>
                  <a:srgbClr val="000000"/>
                </a:solidFill>
                <a:latin typeface="Arial"/>
              </a:rPr>
              <a:t>Nada distraerá tanto a su audiencia como los diagramas que no pueden seguir con facil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imite el empleo de ilustraciones.  Utilícelas  solamente para aclarar o apoyar su tema. Las ilustraciones, tiras cómicas, íconos, símbolos etc., son buenos si se los utiliza en forma adecuada. Por el contrario, si están mal utilizadas distraerán a la audiencia de lo que está hac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ideraciones acerca del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ha tocado estar en alguna presentación donde apenas podía adivinar lo que había en la pantalla, porque el expositor había utilizado colores que hacían difícil de distinguir el texto del fo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lección de colores para la presentación de diapositivas es una de las decisiones más importantes que se deben hacer al comienzo del proceso de producción de diapositivas.  A continuación, presentaremos  algunas ideas para que tengan en mente cuando necesiten elegir los colores del próximo juego de filminas para su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errores más comunes al seleccionar colores para la presentación de diapositivas, es la falta de contraste entre los colores escogidos para el fondo y el del texto o los gráficos. Si usted desea que la audiencia vea el texto o los gráficos en la pantalla, deben presentarte en colores que tengan mucho contraste con el fo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ificado emocional del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studios han demostrado que  los diferentes colores evocan en general diferentes sentimientos en muchas personas Esto puede ser importante cuando llega el momento de seleccionar los colores para su presentación de diapositivas; porque seguramente tratará de evitar colores que tengan un impacto negativo sobre el mensaje que está tratando de presentar.  A continuación presentamos algunas interpretaciones comunes de los co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o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entimientos que evocan en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ro</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esado,formal, muy técn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ón</a:t>
            </a:r>
            <a:r>
              <a:rPr b="0" lang="en-US" sz="1200" spc="-1" strike="noStrike">
                <a:solidFill>
                  <a:srgbClr val="000000"/>
                </a:solidFill>
                <a:latin typeface="Arial"/>
              </a:rPr>
              <a:t>	</a:t>
            </a:r>
            <a:r>
              <a:rPr b="0" lang="en-US" sz="1200" spc="-1" strike="noStrike">
                <a:solidFill>
                  <a:srgbClr val="000000"/>
                </a:solidFill>
                <a:latin typeface="Arial"/>
              </a:rPr>
              <a:t>Tierra, sencillez, exteri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zu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az, tranquilidad, confi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a</a:t>
            </a:r>
            <a:r>
              <a:rPr b="0" lang="en-US" sz="1200" spc="-1" strike="noStrike">
                <a:solidFill>
                  <a:srgbClr val="000000"/>
                </a:solidFill>
                <a:latin typeface="Arial"/>
              </a:rPr>
              <a:t>	</a:t>
            </a:r>
            <a:r>
              <a:rPr b="0" lang="es-ES" sz="1200" spc="-1" strike="noStrike">
                <a:solidFill>
                  <a:srgbClr val="000000"/>
                </a:solidFill>
                <a:latin typeface="Arial"/>
              </a:rPr>
              <a:t>Lealtad, sabiduría, espiritualidad, m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d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aturaleza, ambiente, salud, insec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i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nservador,  prático, conf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jo</a:t>
            </a:r>
            <a:r>
              <a:rPr b="0" lang="en-US" sz="1200" spc="-1" strike="noStrike">
                <a:solidFill>
                  <a:srgbClr val="000000"/>
                </a:solidFill>
                <a:latin typeface="Arial"/>
              </a:rPr>
              <a:t>	</a:t>
            </a:r>
            <a:r>
              <a:rPr b="0" lang="en-US" sz="1200" spc="-1" strike="noStrike">
                <a:solidFill>
                  <a:srgbClr val="000000"/>
                </a:solidFill>
                <a:latin typeface="Arial"/>
              </a:rPr>
              <a:t>	</a:t>
            </a:r>
            <a:r>
              <a:rPr b="0" lang="es-ES" sz="1200" spc="-1" strike="noStrike">
                <a:solidFill>
                  <a:srgbClr val="000000"/>
                </a:solidFill>
                <a:latin typeface="Arial"/>
              </a:rPr>
              <a:t>Pasión, amor, intensidad, corazón, agre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ranjado</a:t>
            </a:r>
            <a:r>
              <a:rPr b="0" lang="en-US" sz="1200" spc="-1" strike="noStrike">
                <a:solidFill>
                  <a:srgbClr val="000000"/>
                </a:solidFill>
                <a:latin typeface="Arial"/>
              </a:rPr>
              <a:t>	</a:t>
            </a:r>
            <a:r>
              <a:rPr b="0" lang="en-US" sz="1200" spc="-1" strike="noStrike">
                <a:solidFill>
                  <a:srgbClr val="000000"/>
                </a:solidFill>
                <a:latin typeface="Arial"/>
              </a:rPr>
              <a:t>Calidez, expansivo, extravaga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rillo</a:t>
            </a:r>
            <a:r>
              <a:rPr b="0" lang="en-US" sz="1200" spc="-1" strike="noStrike">
                <a:solidFill>
                  <a:srgbClr val="000000"/>
                </a:solidFill>
                <a:latin typeface="Arial"/>
              </a:rPr>
              <a:t>	</a:t>
            </a:r>
            <a:r>
              <a:rPr b="0" lang="en-US" sz="1200" spc="-1" strike="noStrike">
                <a:solidFill>
                  <a:srgbClr val="000000"/>
                </a:solidFill>
                <a:latin typeface="Arial"/>
              </a:rPr>
              <a:t>Optimismo, felicidad, idea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nco</a:t>
            </a:r>
            <a:r>
              <a:rPr b="0" lang="en-US" sz="1200" spc="-1" strike="noStrike">
                <a:solidFill>
                  <a:srgbClr val="000000"/>
                </a:solidFill>
                <a:latin typeface="Arial"/>
              </a:rPr>
              <a:t>	</a:t>
            </a:r>
            <a:r>
              <a:rPr b="0" lang="en-US" sz="1200" spc="-1" strike="noStrike">
                <a:solidFill>
                  <a:srgbClr val="000000"/>
                </a:solidFill>
                <a:latin typeface="Arial"/>
              </a:rPr>
              <a:t>Pureza, reverencia, sencill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da esta interpretación general, es mejor evitar el uso excesivo del empleo del negro, anaranjado, gris, rojo y marr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binación de colores que se deben evi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os colores no se debieran emplear juntos por una cantidad de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ojo y el verde chocan entre sí y son difíciles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zul y el anaranjado causan un efecto molesto en los lectores. Ambos colores son demasiado viv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zul y el rojo  no tienen suficiente contraste para que se los pueda distinguir cuando se los emplea junto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2080" y="679320"/>
            <a:ext cx="4533840" cy="3400560"/>
          </a:xfrm>
          <a:prstGeom prst="rect">
            <a:avLst/>
          </a:prstGeom>
          <a:ln w="0">
            <a:noFill/>
          </a:ln>
        </p:spPr>
      </p:sp>
      <p:sp>
        <p:nvSpPr>
          <p:cNvPr id="19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ugerencias para la combinación de co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dos esquemas de colores que se pueden utilizar en una presentación de diapositivas; son una de dos, fondo oscuro con texto y gráficos claros  o fondo claro con texto y gráficos oscuros.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ndo oscuro con texto cla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ondo – un azul o violeta oscu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o – blanco o amari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es acentuados – rojo, lima, verde, cel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fondo en azul y violeta oscuros provee sentimientos emocionales buenos como color predominante en la pantalla;  el amarillo o blanco del texto tienen un buen contraste con el fondo.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2080" y="679320"/>
            <a:ext cx="4533840" cy="3400560"/>
          </a:xfrm>
          <a:prstGeom prst="rect">
            <a:avLst/>
          </a:prstGeom>
          <a:ln w="0">
            <a:noFill/>
          </a:ln>
        </p:spPr>
      </p:sp>
      <p:sp>
        <p:nvSpPr>
          <p:cNvPr id="15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RODUC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ta: E</a:t>
            </a:r>
            <a:r>
              <a:rPr b="0" i="1" lang="es-ES" sz="1200" spc="-1" strike="noStrike">
                <a:solidFill>
                  <a:srgbClr val="000000"/>
                </a:solidFill>
                <a:latin typeface="Arial"/>
              </a:rPr>
              <a:t>ste es un seminario apropiado para trabajar en grupos. Se lo puede utilizar como un taller. Se pueden emplear materiales con los cuales trabajar; de manera que su grupo, pueda aprender a producir los diferentes tipos de materiales visuales que se pres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fuerza más importante de nuestra generación, sin lugar a dudas, es el procesamiento de información, y la forma en la cual se transmite y se reci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re los sentidos más importantes que posee el ser humano, se encuentran la vista y el oí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mucho tiempo, la información en nuestras iglesias era transmitida solamente por la palabra hablada.  Con el paso del tiempo y del desarrollo, se crearon muchas otras formas de transmitir información, tales como: el pizarrón blanco, proyector con transparencias, diapositivas, videos, grabaciones, y computado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s medios son importantes para incentivar a la audiencia a utilizar ambos sentidos (audición y visión) al mismo tiempo.   Esto añade más interacción con el contenido presentado, mayor concentración, y aumenta los estímulos mentales mientras uno elabora las escenas presentadas, como también imagina las subsigui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buen ejemplo, sería  un sermón que presenta el regreso de Cristo. Al final de la presentación aparece la escena del regreso de Cristo con colores brillantes, y el orador invita a que todos canten un himno relacionado con el mensaje. Mientras se canta, se continúan proyectando escenas del regreso de Jesús. ¡Qué impacto causará en las mentes y corazones de los pres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 una tremenda diversidad de recursos para predicar el evangelio, y se debieran utilizar, pero ninguno de ellos llega a ser tan efectivo y completo en su habilidad para transmitir información como el empleo de medios audio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peramos a través de este seminario, que Dios nos pueda ayudar a cada una, a ser mejores oradoras para su gloria.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2080" y="679320"/>
            <a:ext cx="4533840" cy="3400560"/>
          </a:xfrm>
          <a:prstGeom prst="rect">
            <a:avLst/>
          </a:prstGeom>
          <a:ln w="0">
            <a:noFill/>
          </a:ln>
        </p:spPr>
      </p:sp>
      <p:sp>
        <p:nvSpPr>
          <p:cNvPr id="19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ndo claro con texto oscu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ndo– bei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o – azul oscuro, negro o violeta oscu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es acentuados – verde oscuro, rojo oscu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fondo beige combina el impacto emocional del marrón y el blanco sin adoptar demasiado del efecto negativo de estos colores como ser el aburrimiento. El texto oscuro provee suficiente contraste para que lo escrito resalte en la pantalla.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62080" y="679320"/>
            <a:ext cx="4533840" cy="3400560"/>
          </a:xfrm>
          <a:prstGeom prst="rect">
            <a:avLst/>
          </a:prstGeom>
          <a:ln w="0">
            <a:noFill/>
          </a:ln>
        </p:spPr>
      </p:sp>
      <p:sp>
        <p:nvSpPr>
          <p:cNvPr id="19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Reglas para la combinación de colores</a:t>
            </a:r>
            <a:r>
              <a:rPr b="0" lang="es-E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r PowerPoint)</a:t>
            </a:r>
            <a:endParaRPr b="0" lang="en-US" sz="9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MPLEO DEL AUDIO Y VIDE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ás y más gente desea añadir segmentos de audio y videos a sus presentaciones de diapositivas para incrementar el impacto de su mensaje sobre la audiencia. Cada punto en una presentación de diapositivas debiera estar allí para un propósito solamente; incrementar el impacto del mensaje que se está exponiendo. Una vez que se ha decidido que un segmento de audio o video se debe añadir al mensaje (y no se lo está añadiendo solamente porque le gusta), considere las siguientes idea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ómo preparar segmentos de audio de buena calida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la gente no puede comprender lo que se está diciendo en el segmento de audio que acompaña una diapositiva, entonces no tiene ningún sentido que se lo utilice. La calidad de un segmento de audio se magnifica; para bien o para mal,  cuando se amplifica a través de un sistema de sonid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segmento de audio de buena calidad se escucha con claridad, y un segmento de audio de pobre calidad suena aún peor y más distorsionado cuando es amplificado. Uno de los mayores factores para decidir la calidad de un segmento de audio es la frecuencia de muestreo de la  grabación. Una grabación en estéreo, tiene mejor sonido, porque se acerca más a los sonidos en el mundo real  donde escuchamos por ambos oídos.</a:t>
            </a:r>
            <a:r>
              <a:rPr b="1" lang="es-E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ómo preparar segmentos de video de buena calida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alidad del archivo de video depende primariamente de la resolución que se utiliza  para grabar el video. Es posible, grabar el video utilizando una grabadora digital de videos porque la calidad no se deteriora cuando se lo edita o proyecta. Cuanto más alta la resolución, mejor será la calidad del video. Elija la resolución basada en la habilidad de ser proyectada en un cuadro suficientemente grande, como para llenar la pantalla para que la gente pueda ver con claridad desde el fondo del salón.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2080" y="679320"/>
            <a:ext cx="4533840" cy="3400560"/>
          </a:xfrm>
          <a:prstGeom prst="rect">
            <a:avLst/>
          </a:prstGeom>
          <a:ln w="0">
            <a:noFill/>
          </a:ln>
        </p:spPr>
      </p:sp>
      <p:sp>
        <p:nvSpPr>
          <p:cNvPr id="19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las para Audio/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uena calidad de audio proviene de un equipo de sonido de buena c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grabación en estéreo tiene mejor son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ejor elección es guardar su audio en un formato dig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lidad del video depende de la resolución que utilice. Seleccione la resolución basada en la habilidad de ser proyectada en un cuadro suficientemente grande, como para llenar la pantalla para que la gente pueda ver con claridad desde el fondo del sal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segmentos de audio y video pueden añadir más impacto a la presentación si son de buena calidad y se utilizan apropiad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eo del rota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todos parecen estar interesados en crear presentaciones generadas en la alta técnica de la computadora, el rotafolio aún continúa siendo la presentación más efectiva de todas. Los rotafolios son un medio económico para hacer una poderosa presentación. Son simples y efectivos, no fallarán porque sus baterías se acaben y no le necesitará remplazar las lámparas. Para las presentaciones que se exponen ante pequeños grupos de 35 personas o menos, el rotafolio es de un tamaño perfecto.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2080" y="679320"/>
            <a:ext cx="4533840" cy="3400560"/>
          </a:xfrm>
          <a:prstGeom prst="rect">
            <a:avLst/>
          </a:prstGeom>
          <a:ln w="0">
            <a:noFill/>
          </a:ln>
        </p:spPr>
      </p:sp>
      <p:sp>
        <p:nvSpPr>
          <p:cNvPr id="20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entajas del empleo del rota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rotafolio no necesita electricidad</a:t>
            </a:r>
            <a:r>
              <a:rPr b="0" lang="es-ES" sz="1200" spc="-1" strike="noStrike">
                <a:solidFill>
                  <a:srgbClr val="000000"/>
                </a:solidFill>
                <a:latin typeface="Arial"/>
              </a:rPr>
              <a:t> – No necesitará preocuparse ya sea por una lámpara que se podría quemar o  de haberse olvidado de traer un cable de exten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rotafolio es económico</a:t>
            </a:r>
            <a:r>
              <a:rPr b="0" lang="es-ES" sz="1200" spc="-1" strike="noStrike">
                <a:solidFill>
                  <a:srgbClr val="000000"/>
                </a:solidFill>
                <a:latin typeface="Arial"/>
              </a:rPr>
              <a:t> – No requieren el uso de películas especiales o impresoras para producir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 le puede añadir color con facilidad</a:t>
            </a:r>
            <a:r>
              <a:rPr b="0" lang="es-ES" sz="1200" spc="-1" strike="noStrike">
                <a:solidFill>
                  <a:srgbClr val="000000"/>
                </a:solidFill>
                <a:latin typeface="Arial"/>
              </a:rPr>
              <a:t> – Un caja de marcadores económicos le permitirá toda la creatividad que de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rotafolio le permite ser espontánea</a:t>
            </a:r>
            <a:r>
              <a:rPr b="0" lang="es-ES" sz="1200" spc="-1" strike="noStrike">
                <a:solidFill>
                  <a:srgbClr val="000000"/>
                </a:solidFill>
                <a:latin typeface="Arial"/>
              </a:rPr>
              <a:t> – Cualquier cambio de último momento se puede introducir con faci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mundo de hoy, con la alta tecnología del software de las computadoras, muchos de nosotros sentimos que debemos crear una presentación que les mostrará a los demás nuestra habilidad para manejar computadoras y programas complicados. </a:t>
            </a:r>
            <a:r>
              <a:rPr b="0" lang="en-US" sz="1200" spc="-1" strike="noStrike">
                <a:solidFill>
                  <a:srgbClr val="000000"/>
                </a:solidFill>
                <a:latin typeface="Arial"/>
              </a:rPr>
              <a:t>Esto no es verdad. </a:t>
            </a:r>
            <a:r>
              <a:rPr b="0" lang="es-ES" sz="1200" spc="-1" strike="noStrike">
                <a:solidFill>
                  <a:srgbClr val="000000"/>
                </a:solidFill>
                <a:latin typeface="Arial"/>
              </a:rPr>
              <a:t>Como expositores podemos pensar así, pero recuerde que usted,  su habilidad para comunicar es lo importante en la presentación y no las ayudas visuales en s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unque los rotafolios sean de baja tecnología, son confiables y no requieren ninguna habilidad especial para utilizarla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62080" y="679320"/>
            <a:ext cx="4533840" cy="3400560"/>
          </a:xfrm>
          <a:prstGeom prst="rect">
            <a:avLst/>
          </a:prstGeom>
          <a:ln w="0">
            <a:noFill/>
          </a:ln>
        </p:spPr>
      </p:sp>
      <p:sp>
        <p:nvSpPr>
          <p:cNvPr id="20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maximizar el empleo del rotafol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egúrese de que su rotafolio combina con el atril. Hay varios tipos de atriles. Los mejores tienen ganchos en la parte de arriba para sostener las hojas en su l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va a dibujar muchas líneas derechas o desea asegurarse de que el texto estará alineado, le convendrá utilizar hojas cuadriculadas. No utilice un lápiz fino para dibujar líneas que solo usted podrá ver pero no son visibles para la audienc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lanifique sus ayudas visuales en papel normal antes de pasar al rotafolio. Esto le dará una idea de hacia dónde está apuntando y le ahorrará un montón de papel. Si comete un pequeño error, utilice líquido borrador para enmendarlo. Para errores más grandes, se lo podrá cubrir con una etiqueta autoadhesiva y así podrá corregir el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tilice los marcadores adecuados. En lugar de marcadores normales, que pueden pasarse a través de la página; pruebe marcadores que son especialmente diseñados para rotafolios. </a:t>
            </a:r>
            <a:r>
              <a:rPr b="0" lang="en-US" sz="1200" spc="-1" strike="noStrike">
                <a:solidFill>
                  <a:srgbClr val="000000"/>
                </a:solidFill>
                <a:latin typeface="Arial"/>
              </a:rPr>
              <a:t>Estp le ahorrará muicho mal gasto de papel. </a:t>
            </a:r>
            <a:r>
              <a:rPr b="0" lang="es-ES" sz="1200" spc="-1" strike="noStrike">
                <a:solidFill>
                  <a:srgbClr val="000000"/>
                </a:solidFill>
                <a:latin typeface="Arial"/>
              </a:rPr>
              <a:t>Recuerde que los marcadores rosados, amarillos y anaranjados son difíciles de ver más allá de la tercera fila de la audiencia.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62080" y="679320"/>
            <a:ext cx="4533840" cy="3400560"/>
          </a:xfrm>
          <a:prstGeom prst="rect">
            <a:avLst/>
          </a:prstGeom>
          <a:ln w="0">
            <a:noFill/>
          </a:ln>
        </p:spPr>
      </p:sp>
      <p:sp>
        <p:nvSpPr>
          <p:cNvPr id="20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riba el texto y los títulos en forma prolija y clara. </a:t>
            </a:r>
            <a:r>
              <a:rPr b="0" lang="es-ES" sz="1200" spc="-1" strike="noStrike">
                <a:solidFill>
                  <a:srgbClr val="000000"/>
                </a:solidFill>
                <a:latin typeface="Arial"/>
              </a:rPr>
              <a:t>Si usted no tiene una buena caligrafía, podría considerar la idea de pedir a alguna otra persona para que haga el esquema en su l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scriba todo en letras mayúsculas. Una combinación de mayúsculas y minúsculas facilita la lectura. No coloque más de seis líneas por hoja, y trate de reducir las palabras a seis o menos en cada línea. Esta es la regla de 6 X 6 y la obliga a mantener su tema conc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que el rotafolio es una ayuda visual. Si no realza su presentación, podría transformarse en un estorbo. Emplee el rrecurso más adecuado a su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cer esquemas o diagramas por anticipado puede llevar mucho tiempo. Asegúrese de comenzar a preparar los diagramas con suficiente anticipación de modo que pueda revisarlos y hacer cualquier cambio o corrección que necesite de anteman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2080" y="679320"/>
            <a:ext cx="4533840" cy="3400560"/>
          </a:xfrm>
          <a:prstGeom prst="rect">
            <a:avLst/>
          </a:prstGeom>
          <a:ln w="0">
            <a:noFill/>
          </a:ln>
        </p:spPr>
      </p:sp>
      <p:sp>
        <p:nvSpPr>
          <p:cNvPr id="20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ÓMO UTILIZAR DIAG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rror más común que hacen los expositores con respecto de las ayudas visuales es recargarlas, dice Judith Stein, co-autora de </a:t>
            </a:r>
            <a:r>
              <a:rPr b="0" i="1" lang="es-ES" sz="1200" spc="-1" strike="noStrike">
                <a:solidFill>
                  <a:srgbClr val="000000"/>
                </a:solidFill>
                <a:latin typeface="Arial"/>
              </a:rPr>
              <a:t>Presentations for Decision Makers (Presentaciones para lograr decis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Usted desea que la audiencia mire a la pantalla, capte el mensaje con rapidez, y entonces se enfoque en usted” dice ella. Cuando los espectadores tienen que dedicar tiempo a leer “usted se transforma en la voz sobrepuesta al video, y pierde la efectividad como expositor. Los audiovisuales deben apoyarlo o auxiliarlo en su presentación, no reemplazar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creto para un buen esquema o diagrama en papel es hacerlo simple para comuni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ómo hacer diagramas comunica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mplificar un diagrama requiere a menudo un cambio en el formato; cambiar de un gráfico de línea a un diagrama de barra horizontal, por ejemplo, porque comunica más efectivamente el mensa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ción de diag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vez que tiene un título o una declaración de acción,  observe los verbos  en la declaración para conseguir una idea de cuál será el mejor diagrama para emplear al presentar su inform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diagramas de líneas son mejores cuando una variable tiene más de cuatro o cinco datos de información, y se desea enfatizar continuidad. Los dibujos que siguen las líneas le dicen al espectador de un golpe de vista la dirección de las tendencias. Sin embargo, si  tiene menos que cinco datos de información, utilice un diagrama de barras vertic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 forma común de presentación es el organigrama (muestra la relación de funcionamientos dentro de un grupo o estructura) el diagrama de fluidez (diagrama de proceso), y el Gran diagrama (muestra la duración y las diferentes tareas que atraviesan un calend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hacer estos simples diagramas; como también formas más complicadas, ha llegado a ser considerablemente más fácil con la presentación de software. Sin embargo, no permita que las posibilidades artísticas interfieran con el mensaj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62080" y="679320"/>
            <a:ext cx="4533840" cy="3400560"/>
          </a:xfrm>
          <a:prstGeom prst="rect">
            <a:avLst/>
          </a:prstGeom>
          <a:ln w="0">
            <a:noFill/>
          </a:ln>
        </p:spPr>
      </p:sp>
      <p:sp>
        <p:nvSpPr>
          <p:cNvPr id="20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utas para hacer diagramas de buena c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unique un mensaje por diagrama. Que el mensaje sea el títu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el diagrama fácil de leer.  Identifique los ejes de X- y de Y- e identifique las líneas, barras o  esquemas. Trace los textos importantes más grandes, las líneas o secciones de datos más oscu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exacto. Siempre comience con un eje numérico en cero.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2080" y="679320"/>
            <a:ext cx="4533840" cy="3400560"/>
          </a:xfrm>
          <a:prstGeom prst="rect">
            <a:avLst/>
          </a:prstGeom>
          <a:ln w="0">
            <a:noFill/>
          </a:ln>
        </p:spPr>
      </p:sp>
      <p:sp>
        <p:nvSpPr>
          <p:cNvPr id="21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e detalles innecesarios. </a:t>
            </a:r>
            <a:r>
              <a:rPr b="0" lang="es-ES" sz="1200" spc="-1" strike="noStrike">
                <a:solidFill>
                  <a:srgbClr val="000000"/>
                </a:solidFill>
                <a:latin typeface="Arial"/>
              </a:rPr>
              <a:t>Evite líneas, cuadrillas, recuadros, y otros recursos a menos que estén relacionados con el mensa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utilice más de cuatro colores por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ite diseños de colores muy vivos, como ser líneas contrastantes, diseños de ondas y entrecruzad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qué emplear medios audio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fin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medio visual es cualquier cosa que la audiencia pueda ver, que pueda ayudar al orador a llegar con su mensaje a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lidad y claridad de un medio visual, es un factor determinante en la efectividad de una presentación oral.  Al emplear los medios visuales efectivamente, podrá captar la atención del oyente y enfocarla en los puntos importantes. Sin embargo, con medios visuales difíciles de leer, podría suceder que termine sin comprender los puntos importantes  que desea destacar, porque estarán esforzándose para tratar de ver lo que se muestra. Los medios visuales de buena calidad son esenciales para lograr una enseñanza efectiva, e importantes para que una presentación sea exitosa.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62080" y="679320"/>
            <a:ext cx="4533840" cy="3400560"/>
          </a:xfrm>
          <a:prstGeom prst="rect">
            <a:avLst/>
          </a:prstGeom>
          <a:ln w="0">
            <a:noFill/>
          </a:ln>
        </p:spPr>
      </p:sp>
      <p:sp>
        <p:nvSpPr>
          <p:cNvPr id="21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enfocar la atención, utilice color, sombreado, o imágenes como ser flechas palabras o conceptos claves subray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riba en mayúscula y minúscula. Las palabras escritas todas en mayúsculas son difíciles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race las barras y columnas más anchas que los espacios que las separ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mplee presentaciones de software sencillas. Simplifique la parte visual</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62080" y="679320"/>
            <a:ext cx="4533840" cy="3400560"/>
          </a:xfrm>
          <a:prstGeom prst="rect">
            <a:avLst/>
          </a:prstGeom>
          <a:ln w="0">
            <a:noFill/>
          </a:ln>
        </p:spPr>
      </p:sp>
      <p:sp>
        <p:nvSpPr>
          <p:cNvPr id="21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jemplos de diag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iagrama de barras horizo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62080" y="679320"/>
            <a:ext cx="4533840" cy="3400560"/>
          </a:xfrm>
          <a:prstGeom prst="rect">
            <a:avLst/>
          </a:prstGeom>
          <a:ln w="0">
            <a:noFill/>
          </a:ln>
        </p:spPr>
      </p:sp>
      <p:sp>
        <p:nvSpPr>
          <p:cNvPr id="21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a de lín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2080" y="679320"/>
            <a:ext cx="4533840" cy="3400560"/>
          </a:xfrm>
          <a:prstGeom prst="rect">
            <a:avLst/>
          </a:prstGeom>
          <a:ln w="0">
            <a:noFill/>
          </a:ln>
        </p:spPr>
      </p:sp>
      <p:sp>
        <p:nvSpPr>
          <p:cNvPr id="21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a de barras ver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62080" y="679320"/>
            <a:ext cx="4533840" cy="3400560"/>
          </a:xfrm>
          <a:prstGeom prst="rect">
            <a:avLst/>
          </a:prstGeom>
          <a:ln w="0">
            <a:noFill/>
          </a:ln>
        </p:spPr>
      </p:sp>
      <p:sp>
        <p:nvSpPr>
          <p:cNvPr id="22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a cir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62080" y="679320"/>
            <a:ext cx="4533840" cy="3400560"/>
          </a:xfrm>
          <a:prstGeom prst="rect">
            <a:avLst/>
          </a:prstGeom>
          <a:ln w="0">
            <a:noFill/>
          </a:ln>
        </p:spPr>
      </p:sp>
      <p:sp>
        <p:nvSpPr>
          <p:cNvPr id="22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iagramas – Paletas de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amos a continuación algunos ejemplos de paletas de colores que puede utilizar en sus diagram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2080" y="679320"/>
            <a:ext cx="4533840" cy="3400560"/>
          </a:xfrm>
          <a:prstGeom prst="rect">
            <a:avLst/>
          </a:prstGeom>
          <a:ln w="0">
            <a:noFill/>
          </a:ln>
        </p:spPr>
      </p:sp>
      <p:sp>
        <p:nvSpPr>
          <p:cNvPr id="22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MPLEO DE PIZARRÓN BLANCO Y VERDE (RP-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si cualquier cosa que coloque en un pizarrón será clara para usted; el examen que debe pasar es que su presentación en la pizarra sea clara para la audiencia que la está viendo por primera vez. Mantenga en mente estos tres principios al planificar su presentación en la pizar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rmita que la audiencia vea y lea lo que ha escrito</a:t>
            </a:r>
            <a:r>
              <a:rPr b="0" lang="es-ES" sz="1200" spc="-1" strike="noStrike">
                <a:solidFill>
                  <a:srgbClr val="000000"/>
                </a:solidFill>
                <a:latin typeface="Arial"/>
              </a:rPr>
              <a:t>. </a:t>
            </a:r>
            <a:r>
              <a:rPr b="0" lang="en-US" sz="1200" spc="-1" strike="noStrike">
                <a:solidFill>
                  <a:srgbClr val="000000"/>
                </a:solidFill>
                <a:latin typeface="Arial"/>
              </a:rPr>
              <a:t>Una escritura ilegible o tapada, carece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tiempo a la audiencia para copiar lo que ha escrito</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rganice lo que va a hacer en la pizarra</a:t>
            </a:r>
            <a:r>
              <a:rPr b="0" lang="es-ES" sz="1200" spc="-1" strike="noStrike">
                <a:solidFill>
                  <a:srgbClr val="000000"/>
                </a:solidFill>
                <a:latin typeface="Arial"/>
              </a:rPr>
              <a:t>. Esto ayudará a la audiencia a interpretar sus notas. Una pizarra organizada ayuda a tomar buenos apu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untos a considerar cuando utiliza los pizarrones blancos o verdes para t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ún en  habitación de tamaño normal, la audiencia en las filas de atrás podría tener dificultad para leer palabras escritas en caligrafía pequeña.  Trate de mantener su trabajo visible tanto como sea po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e pide a la audiencia que analice una idea, no podrán comenzar a pensar en forma analítica hasta que no hayan terminado de copiar. Cuando desee enfatizar un punto, deje de escrib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llene un panel a la vez, comience siempre de arriba hacia abajo. Subraye, o remarque de alguna otra manera, las partes más importantes de su presentación; los supuestos más importantes, o  conclusiones, o los pasos intermedios a los que está planeando referirse más tar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tiza de colores puede ayudar a hacer dibujos más cla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tilice pizarra blanca asegúrese de que esté empleando los marcadores del tipo correcto (Hay algunos marcadores que solamente se pueden borrar con alco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glas para el uso de pizarra blanca/ver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criba gran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escriba debajo de la línea de visión de la audiencia que se encuentra en la última hil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lene el pizarrón de derecha a izquierda si usted es diestro, así los espectadores no estarán bloque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destacar una idea, pare de escribir, permita que la audiencia se ponga al día tomando notas y luego haga coment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orre solamente cuando se le termine el espacio libre.</a:t>
            </a:r>
            <a:endParaRPr b="0" lang="en-US" sz="12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62080" y="679320"/>
            <a:ext cx="4533840" cy="3400560"/>
          </a:xfrm>
          <a:prstGeom prst="rect">
            <a:avLst/>
          </a:prstGeom>
          <a:ln w="0">
            <a:noFill/>
          </a:ln>
        </p:spPr>
      </p:sp>
      <p:sp>
        <p:nvSpPr>
          <p:cNvPr id="22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CCIONES OBJE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oncepto de lección objetiva es muy simple; comunicar visualmente un solo pensamiento o idea de tal manera que sea recordado. La lección objetiva llega a ser un “ancla” de la memoria para lo que usted desea que la audiencia recuer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simple o complicada, la lección objetiva es una herramienta para reforzar la lección. Unas pocas instrucciones simples de qué hacer y qué no hacer pueden hacer toda la diferencia en el impacto de una lección objetiva.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62080" y="679320"/>
            <a:ext cx="4533840" cy="3400560"/>
          </a:xfrm>
          <a:prstGeom prst="rect">
            <a:avLst/>
          </a:prstGeom>
          <a:ln w="0">
            <a:noFill/>
          </a:ln>
        </p:spPr>
      </p:sp>
      <p:sp>
        <p:nvSpPr>
          <p:cNvPr id="22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edique!</a:t>
            </a:r>
            <a:r>
              <a:rPr b="0" lang="en-US" sz="1200" spc="-1" strike="noStrike">
                <a:solidFill>
                  <a:srgbClr val="000000"/>
                </a:solidFill>
                <a:latin typeface="Arial"/>
              </a:rPr>
              <a:t> </a:t>
            </a:r>
            <a:r>
              <a:rPr b="0" lang="es-ES" sz="1200" spc="-1" strike="noStrike">
                <a:solidFill>
                  <a:srgbClr val="000000"/>
                </a:solidFill>
                <a:latin typeface="Arial"/>
              </a:rPr>
              <a:t>El objetivo es llevar un solo pensamiento a la vez y reforzar la idea con la lección objetiva. </a:t>
            </a:r>
            <a:r>
              <a:rPr b="0" lang="en-US" sz="1200" spc="-1" strike="noStrike">
                <a:solidFill>
                  <a:srgbClr val="000000"/>
                </a:solidFill>
                <a:latin typeface="Arial"/>
              </a:rPr>
              <a:t>No predique un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tilice lenguaje simple</a:t>
            </a:r>
            <a:r>
              <a:rPr b="0" lang="en-US" sz="1200" spc="-1" strike="noStrike">
                <a:solidFill>
                  <a:srgbClr val="000000"/>
                </a:solidFill>
                <a:latin typeface="Arial"/>
              </a:rPr>
              <a:t>. </a:t>
            </a:r>
            <a:r>
              <a:rPr b="0" lang="es-ES" sz="1200" spc="-1" strike="noStrike">
                <a:solidFill>
                  <a:srgbClr val="000000"/>
                </a:solidFill>
                <a:latin typeface="Arial"/>
              </a:rPr>
              <a:t>No emplee palabras complicadas, sino el lenguaje de todos los días, con palabras simples para transmitir su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roduzca la lección objetiva al principio (no al final)</a:t>
            </a:r>
            <a:r>
              <a:rPr b="0" lang="es-ES" sz="1200" spc="-1" strike="noStrike">
                <a:solidFill>
                  <a:srgbClr val="000000"/>
                </a:solidFill>
                <a:latin typeface="Arial"/>
              </a:rPr>
              <a:t> Empléela como un punto de referencia a través de su present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nténgase con un pensamiento/idea/concepto solame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objetos comunes para comunicar verdades comu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ga el objeto tan grande y visible como sea po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lecciones objetivas es el medio visual más fácil, pero probablemente el más difícil de realizar porque sobreabundan las ideas. Encontrar la idea correcta y el objeto correcto para comunicar una idea es difícil.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2080" y="679320"/>
            <a:ext cx="4533840" cy="3400560"/>
          </a:xfrm>
          <a:prstGeom prst="rect">
            <a:avLst/>
          </a:prstGeom>
          <a:ln w="0">
            <a:noFill/>
          </a:ln>
        </p:spPr>
      </p:sp>
      <p:sp>
        <p:nvSpPr>
          <p:cNvPr id="23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sos simples para desarrollar lecciones objetivas:</a:t>
            </a:r>
            <a:r>
              <a:rPr b="0" lang="es-E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2080" y="679320"/>
            <a:ext cx="4533840" cy="3400560"/>
          </a:xfrm>
          <a:prstGeom prst="rect">
            <a:avLst/>
          </a:prstGeom>
          <a:ln w="0">
            <a:noFill/>
          </a:ln>
        </p:spPr>
      </p:sp>
      <p:sp>
        <p:nvSpPr>
          <p:cNvPr id="16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QUÉ EMPLEAR MEDIOS AUDIOVISU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o declara la misma definición,  la razón más importante para emplearlos es: ayudar a los oradores a comunicar más efectivamente el mensaje a su audiencia. Más importante aún, es que estos medios puedan ayudar a su audiencia a permanecer atenta y a tener una mayor retención de la información. Existe un buen número de razones que favorecen el empleo de ayudas visu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tención de la audiencia será más completa. El flujo y reflujo de la atención de la audiencia es inevitable. El desafío es poder dirigir la atención de la audiencia en los períodos estratégicos. Las ayudas visuales proveen un mecanismo para dirigir y enfocar la aten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oyente retiene mejor el mensaje. Las investigaciones han demostrado claramente que la gente retiene más cuando puede ver y escuchar comparado con lo que simplemente escucha. Por ejemplo, las investigaciones revelan que la retención del mensaje después de tres días, es tan solo del 10% luego de una presentación oral, pero del 65% luego de una presentación oral y vis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ayudas visuales aumentan la capacidad de persuasión.  Los estudios han encontrado que los expositores que emplean medios visuales; condujeron la reunión en menos tiempo y lograron que se aprueben sus propuestas más a menudo.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2080" y="679320"/>
            <a:ext cx="4533840" cy="3400560"/>
          </a:xfrm>
          <a:prstGeom prst="rect">
            <a:avLst/>
          </a:prstGeom>
          <a:ln w="0">
            <a:noFill/>
          </a:ln>
        </p:spPr>
      </p:sp>
      <p:sp>
        <p:nvSpPr>
          <p:cNvPr id="23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ús era hábil para señalar cosas de la naturaleza o de sus alrededores  para ilustrar verdades espirituales. Un objeto puede ser un puente para la comprensión. </a:t>
            </a:r>
            <a:r>
              <a:rPr b="0" lang="es-ES" sz="1200" spc="-1" strike="noStrike">
                <a:solidFill>
                  <a:srgbClr val="000000"/>
                </a:solidFill>
                <a:latin typeface="Arial"/>
              </a:rPr>
              <a:t>Una lección objetiva será recordada por más tiempo y será reproducida por la gente varias veces mientras la comparten con amigos y famili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 ejemplo para ilustrar</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por sus frutos los conoceré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elegirían comer, una banana podrida o una que está linda y mad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ter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anana podr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anana bu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x. </a:t>
            </a:r>
            <a:r>
              <a:rPr b="0" lang="es-ES" sz="1200" spc="-1" strike="noStrike">
                <a:solidFill>
                  <a:srgbClr val="000000"/>
                </a:solidFill>
                <a:latin typeface="Arial"/>
              </a:rPr>
              <a:t>4 minu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dad a la que va dirig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s las e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Qué hacer durante la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mostrará a la congregación la banana podrida primero para ver su reacción. Entonces mostrará la banana buena para obtener una reacción difer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s de decir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le muestra a todos la banana podrida pregunte, ¿A quién le gustaría comer esta banana? </a:t>
            </a:r>
            <a:r>
              <a:rPr b="0" lang="en-US" sz="1200" spc="-1" strike="noStrike">
                <a:solidFill>
                  <a:srgbClr val="000000"/>
                </a:solidFill>
                <a:latin typeface="Arial"/>
              </a:rPr>
              <a:t>¿Porqué no? </a:t>
            </a:r>
            <a:r>
              <a:rPr b="0" lang="es-ES" sz="1200" spc="-1" strike="noStrike">
                <a:solidFill>
                  <a:srgbClr val="000000"/>
                </a:solidFill>
                <a:latin typeface="Arial"/>
              </a:rPr>
              <a:t>¿Cómo pueden saber que esta banana no va a tener buen gusto? Entonces muéstrele a todos la buena banana y pregunte: ¿Quién te gustaría que coma esta banana? ¿Por qué? ¿Cómo puedes saber que esta banana tendrá buen gusto? Nuestras vidas son como una de estas dos frutas. La gente sabe quiénes somos por el tipo de frutos que producimos. En Mateo 7:20 dice “Por sus frutos los conoceréis.” </a:t>
            </a:r>
            <a:r>
              <a:rPr b="0" lang="en-US" sz="1200" spc="-1" strike="noStrike">
                <a:solidFill>
                  <a:srgbClr val="000000"/>
                </a:solidFill>
                <a:latin typeface="Arial"/>
              </a:rPr>
              <a:t>¿Qué clase de frutos deseas producir? </a:t>
            </a:r>
            <a:r>
              <a:rPr b="0" lang="es-ES" sz="1200" spc="-1" strike="noStrike">
                <a:solidFill>
                  <a:srgbClr val="000000"/>
                </a:solidFill>
                <a:latin typeface="Arial"/>
              </a:rPr>
              <a:t>Será tu fruto bueno, como esta banana, o no tan bueno, como esta otra ban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ctífe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ado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aces</a:t>
            </a:r>
            <a:r>
              <a:rPr b="0" lang="es-E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62080" y="679320"/>
            <a:ext cx="4533840" cy="3400560"/>
          </a:xfrm>
          <a:prstGeom prst="rect">
            <a:avLst/>
          </a:prstGeom>
          <a:ln w="0">
            <a:noFill/>
          </a:ln>
        </p:spPr>
      </p:sp>
      <p:sp>
        <p:nvSpPr>
          <p:cNvPr id="23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 AUDIENC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62080" y="679320"/>
            <a:ext cx="4533840" cy="3400560"/>
          </a:xfrm>
          <a:prstGeom prst="rect">
            <a:avLst/>
          </a:prstGeom>
          <a:ln w="0">
            <a:noFill/>
          </a:ln>
        </p:spPr>
      </p:sp>
      <p:sp>
        <p:nvSpPr>
          <p:cNvPr id="23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e análisis puede incluir consideraciones relacionadas con:</a:t>
            </a:r>
            <a:endParaRPr b="0" lang="en-US" sz="10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r PowerPoint)</a:t>
            </a:r>
            <a:endParaRPr b="0" lang="en-US" sz="9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or ejemplo, si usted está haciendo una presentación sobre “Liderazgo”, es vital conocer el nivel de educación promedio de la audiencia. Un material bien preparado y un vocabulario inadecuado para la audiencia puede tener el mismo efecto que un material pobremente preparado vertido a la audiencia correc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seleccione material para su presentación es una buena idea averiguar acerca del ambiente, la ubicación, el tamaño de la sala, y cuánta gente habrá allí. Si es posible, haga un viaje al lugar donde tendrá lugar su presentación. Al hacerlo, podrá ver todas las posibilidades y adaptarlas en lo que sea necesari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ómo escoger el material apropiado para cada situació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Ya se han comentado algunas sugerencias que pueden ayudar en gran medida a decidir el tipo de material a emplearse, dependiendo de su audiencia. El principio básico es que su audiencia necesita ver lo que usted desea ilustrar y escuchar lo que usted desea decir. Cuando piensa emplear un rotafolio, recuerde que su ayuda visual es para un número pequeño de personas. Una presentación con diapositivas o con transparencias para retro proyector es más adecuado para audiencias y auditorios grand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ún cando no cuente con todos los recursos tecnológicos posibles, su creatividad, puede hacer la diferencia al utilizar recursos simples, y recibir grandes resultados a cambi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CLUSIÓ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vez que no es el 100% necesario para el éxito de su presentación, las ayudas audiovisuales, pueden a menudo hacer la diferencia entre una presentación buena y otra muy buena. </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2080" y="679320"/>
            <a:ext cx="4533840" cy="3400560"/>
          </a:xfrm>
          <a:prstGeom prst="rect">
            <a:avLst/>
          </a:prstGeom>
          <a:ln w="0">
            <a:noFill/>
          </a:ln>
        </p:spPr>
      </p:sp>
      <p:sp>
        <p:nvSpPr>
          <p:cNvPr id="23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n ilustrado muchas pautas y principios acerca del empleo y la producción  de medios audiovisuales. Hemos aprendido acerca de muchas herramientas que se pueden emplear para presentar nuestro mensaje más efectivamente. Ahora, compartiremos ocho consideraciones adicionales para recordar cada vez que sea invitada para presentar una charla. El no prestar atención a cada uno de estos puntos, puede dar como resultado, una presentación que no será tan efectiva como podría haber si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blezca su propósito. 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cione su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vestigue acerca de su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ice su audiencia.</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62080" y="679320"/>
            <a:ext cx="4533840" cy="3400560"/>
          </a:xfrm>
          <a:prstGeom prst="rect">
            <a:avLst/>
          </a:prstGeom>
          <a:ln w="0">
            <a:noFill/>
          </a:ln>
        </p:spPr>
      </p:sp>
      <p:sp>
        <p:nvSpPr>
          <p:cNvPr id="24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leccione los medios audiovisu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pare el material y prac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nga su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alúe la retroalimentación de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Dios la bendiga en su objetivo de modo que pueda hacer lo mejor para Dios y su iglesi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62080" y="679320"/>
            <a:ext cx="4533840" cy="3400560"/>
          </a:xfrm>
          <a:prstGeom prst="rect">
            <a:avLst/>
          </a:prstGeom>
          <a:ln w="0">
            <a:noFill/>
          </a:ln>
        </p:spPr>
      </p:sp>
      <p:sp>
        <p:nvSpPr>
          <p:cNvPr id="16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ensaje se transmite en forma más eficiente. </a:t>
            </a:r>
            <a:r>
              <a:rPr b="0" lang="es-ES" sz="1200" spc="-1" strike="noStrike">
                <a:solidFill>
                  <a:srgbClr val="000000"/>
                </a:solidFill>
                <a:latin typeface="Arial"/>
              </a:rPr>
              <a:t>El refrán “Una lámina vale más que mil palabras” es verdadero. Si desea lograr que la audiencia comprenda cómo se utiliza la levadura para hacer pan, su mensaje se transmitirá mejor si la audiencia puede ver los ingredien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gente espera que se presenten ayudas visuales. </a:t>
            </a:r>
            <a:r>
              <a:rPr b="0" lang="es-ES" sz="1200" spc="-1" strike="noStrike">
                <a:solidFill>
                  <a:srgbClr val="000000"/>
                </a:solidFill>
                <a:latin typeface="Arial"/>
              </a:rPr>
              <a:t>El mundo de hoy en día es muy visual, comparado con lo que era hace pocas décadas atrás. La persona promedio está visualmente orientada y está acostumbrada a la presentación visual. De aquí que, una presentación oral es aburrida para la mayoría de la g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medios visuales ayudan a lograr una presentación organizada. </a:t>
            </a:r>
            <a:r>
              <a:rPr b="0" lang="es-ES" sz="1200" spc="-1" strike="noStrike">
                <a:solidFill>
                  <a:srgbClr val="000000"/>
                </a:solidFill>
                <a:latin typeface="Arial"/>
              </a:rPr>
              <a:t>Uno de los usos más efectivos de los medios visuales es establecer una organización general para la presentación.  Las ayudas visuales, lo obligan a ordenar y secuenciar las ideas que presentará.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62080" y="679320"/>
            <a:ext cx="4533840" cy="3400560"/>
          </a:xfrm>
          <a:prstGeom prst="rect">
            <a:avLst/>
          </a:prstGeom>
          <a:ln w="0">
            <a:noFill/>
          </a:ln>
        </p:spPr>
      </p:sp>
      <p:sp>
        <p:nvSpPr>
          <p:cNvPr id="16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s ayudas visuales añadirán variedad y énfasis a su presentación.  </a:t>
            </a:r>
            <a:r>
              <a:rPr b="0" lang="es-ES" sz="1200" spc="-1" strike="noStrike">
                <a:solidFill>
                  <a:srgbClr val="000000"/>
                </a:solidFill>
                <a:latin typeface="Arial"/>
              </a:rPr>
              <a:t>Los maestros efectivos utilizan una variedad de métodos  y técnicas de enseñanza diferentes al enseñar. El empleo de medios visuales variados, ayuda a mantener el interés, proveyendo diversida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 mensaje se presenta tanto oral como visualmente.</a:t>
            </a:r>
            <a:r>
              <a:rPr b="0" lang="en-US" sz="1200" spc="-1" strike="noStrike">
                <a:solidFill>
                  <a:srgbClr val="000000"/>
                </a:solidFill>
                <a:latin typeface="Arial"/>
              </a:rPr>
              <a:t> </a:t>
            </a:r>
            <a:r>
              <a:rPr b="0" lang="es-ES" sz="1200" spc="-1" strike="noStrike">
                <a:solidFill>
                  <a:srgbClr val="000000"/>
                </a:solidFill>
                <a:latin typeface="Arial"/>
              </a:rPr>
              <a:t>Algunas personas procesan la información mejor en forma auditiva, otros la procesan mejor en forma visual. Cuando usted utiliza medios visuales para una presentación, se estará comunicando con ambos tipos de person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medios visuales la ayudarán a ser concisa. </a:t>
            </a:r>
            <a:r>
              <a:rPr b="0" lang="es-ES" sz="1200" spc="-1" strike="noStrike">
                <a:solidFill>
                  <a:srgbClr val="000000"/>
                </a:solidFill>
                <a:latin typeface="Arial"/>
              </a:rPr>
              <a:t>Usted ser verá forzada a destilar sus ideas hasta llegar a su esencia cuando utiliza medios visual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e engañe pensando que con medios visuales deslumbrantes, podrá salvar una exposición de un tema pobremente estructurado.  Deberá comenzar con un tema bien desarrollado antes de que las ayudas visuales puedan lograr un efecto important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2080" y="679320"/>
            <a:ext cx="4533840" cy="3400560"/>
          </a:xfrm>
          <a:prstGeom prst="rect">
            <a:avLst/>
          </a:prstGeom>
          <a:ln w="0">
            <a:noFill/>
          </a:ln>
        </p:spPr>
      </p:sp>
      <p:sp>
        <p:nvSpPr>
          <p:cNvPr id="16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ipos de medios audio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dos tipos de medios audio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át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nám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áticos</a:t>
            </a:r>
            <a:r>
              <a:rPr b="0" lang="es-ES" sz="1200" spc="-1" strike="noStrike">
                <a:solidFill>
                  <a:srgbClr val="000000"/>
                </a:solidFill>
                <a:latin typeface="Arial"/>
              </a:rPr>
              <a:t>: no los cambie durante la presentación. Algunos ejemplos de medios visuales estáticos 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roproyect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posi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zarrón blan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ta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áficos de la computadora no anim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2080" y="679320"/>
            <a:ext cx="4533840" cy="3400560"/>
          </a:xfrm>
          <a:prstGeom prst="rect">
            <a:avLst/>
          </a:prstGeom>
          <a:ln w="0">
            <a:noFill/>
          </a:ln>
        </p:spPr>
      </p:sp>
      <p:sp>
        <p:nvSpPr>
          <p:cNvPr id="17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inámica: </a:t>
            </a:r>
            <a:r>
              <a:rPr b="0" lang="es-ES" sz="1200" spc="-1" strike="noStrike">
                <a:solidFill>
                  <a:srgbClr val="000000"/>
                </a:solidFill>
                <a:latin typeface="Arial"/>
              </a:rPr>
              <a:t>cámbielos de alguna manera durante la presentación. Algunos ejemplos de medios audiovisuales dinámicos 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baciones de a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áficos de computadora anim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ciones de Powe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ciones obje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general, los medios audiovisuales dinámicos ayudarán a mantener mejor la atención de la audiencia, pero en general llevarán más tiempo para prepararlos. Las ayudas visuales estáticas, podrían tener un potencial menor que las dinámicas para atraer la atención, pero aún pueden ser muy efectivas y fáciles de preparar y emplear.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62080" y="679320"/>
            <a:ext cx="4533840" cy="3400560"/>
          </a:xfrm>
          <a:prstGeom prst="rect">
            <a:avLst/>
          </a:prstGeom>
          <a:ln w="0">
            <a:noFill/>
          </a:ln>
        </p:spPr>
      </p:sp>
      <p:sp>
        <p:nvSpPr>
          <p:cNvPr id="17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88B70-EE8B-4C9C-9854-9355E4BD2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DBFAE-D281-4A35-83F1-A34E1B0C6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62472-6BFE-4A3F-8537-D10C76E33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67CDF-B4BF-4C58-94FE-5D7A3AFDD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B1370-FD4C-49DB-9F48-E35409DB5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3F203-A6CB-4451-9C2F-0B73E7C0A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1BE14-EE67-4A86-9F10-8FD8C4EE5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EB2A6-0F5A-4970-8DE7-1EDE80BC2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1CB4A-16CE-4492-A139-4562CB924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79D5E-81F3-4B01-825F-6573D89B4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0A65C-F831-4C8B-8CCF-AA356497C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E471E-5422-42A2-AFF1-9FB03DEA0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DF02B-A79A-4447-9D56-A3DD361EEA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wmf"/><Relationship Id="rId3" Type="http://schemas.openxmlformats.org/officeDocument/2006/relationships/slideLayout" Target="../slideLayouts/slideLayout8.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6360" y="5013360"/>
            <a:ext cx="633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99"/>
                </a:solidFill>
                <a:latin typeface="Arial"/>
              </a:rPr>
              <a:t>Certificación en liderazg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99"/>
                </a:solidFill>
                <a:latin typeface="Arial"/>
              </a:rPr>
              <a:t>Nivel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99"/>
                </a:solidFill>
                <a:latin typeface="Arial"/>
              </a:rPr>
              <a:t>Ministerios de la Mujer, Asociación General</a:t>
            </a:r>
            <a:endParaRPr b="0" lang="en-US" sz="1800" spc="-1" strike="noStrike">
              <a:solidFill>
                <a:srgbClr val="000000"/>
              </a:solidFill>
              <a:latin typeface="Arial"/>
            </a:endParaRPr>
          </a:p>
        </p:txBody>
      </p:sp>
      <p:sp>
        <p:nvSpPr>
          <p:cNvPr id="49" name=""/>
          <p:cNvSpPr/>
          <p:nvPr/>
        </p:nvSpPr>
        <p:spPr>
          <a:xfrm>
            <a:off x="3294360" y="3716280"/>
            <a:ext cx="23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69e8"/>
                </a:solidFill>
                <a:latin typeface="Georgia"/>
              </a:rPr>
              <a:t>Raquel Arrai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0F8E31B-48C6-4690-98D2-7AFFFC5CC2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2556000" y="1916280"/>
            <a:ext cx="6264000" cy="4752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Century Gothic"/>
              </a:rPr>
              <a:t>Cuantos más sentidos logra que utilice la audiencia, más efectiva será su comunicación. Si usted diserta, el único sentido que estará usando la audiencia será el oído. Si usted diserta y utiliza medios audiovisuales, la audiencia utilizará sus sentidos de vista y oído. </a:t>
            </a:r>
            <a:endParaRPr b="0" lang="en-US" sz="2400" spc="-1" strike="noStrike">
              <a:solidFill>
                <a:srgbClr val="000000"/>
              </a:solidFill>
              <a:latin typeface="Arial"/>
            </a:endParaRPr>
          </a:p>
        </p:txBody>
      </p:sp>
      <p:sp>
        <p:nvSpPr>
          <p:cNvPr id="66" name=""/>
          <p:cNvSpPr/>
          <p:nvPr/>
        </p:nvSpPr>
        <p:spPr>
          <a:xfrm>
            <a:off x="2484360" y="476280"/>
            <a:ext cx="5400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Cómo Utilizar Recursos Audiovisuales</a:t>
            </a:r>
            <a:endParaRPr b="0" lang="en-US" sz="4400" spc="-1" strike="noStrike">
              <a:solidFill>
                <a:srgbClr val="000000"/>
              </a:solidFill>
              <a:latin typeface="Arial"/>
            </a:endParaRPr>
          </a:p>
        </p:txBody>
      </p:sp>
      <p:sp>
        <p:nvSpPr>
          <p:cNvPr id="67" name=""/>
          <p:cNvSpPr/>
          <p:nvPr/>
        </p:nvSpPr>
        <p:spPr>
          <a:xfrm>
            <a:off x="1979640" y="1773360"/>
            <a:ext cx="669600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4AF396E-01B4-4F7E-B882-21BCCF9EC8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971280" y="1960200"/>
            <a:ext cx="6337080" cy="4132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Muestre los medios audiovisuales solamente cuando esté hablando acerca de ellos.</a:t>
            </a:r>
            <a:endParaRPr b="0" lang="en-US" sz="2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Hable acerca de la ayuda visual mientras la está mostrando.</a:t>
            </a:r>
            <a:r>
              <a:rPr b="0" i="1" lang="es-ES" sz="2800" spc="-1" strike="noStrike">
                <a:solidFill>
                  <a:srgbClr val="2a69e8"/>
                </a:solidFill>
                <a:latin typeface="Arial"/>
              </a:rPr>
              <a:t> </a:t>
            </a:r>
            <a:endParaRPr b="0" lang="en-US" sz="2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Hable a la audiencia, no a la ayuda visual</a:t>
            </a:r>
            <a:r>
              <a:rPr b="0" i="1" lang="es-ES" sz="2800" spc="-1" strike="noStrike">
                <a:solidFill>
                  <a:srgbClr val="2a69e8"/>
                </a:solidFill>
                <a:latin typeface="Arial"/>
              </a:rPr>
              <a:t>. </a:t>
            </a:r>
            <a:endParaRPr b="0" lang="en-US" sz="2800" spc="-1" strike="noStrike">
              <a:solidFill>
                <a:srgbClr val="000000"/>
              </a:solidFill>
              <a:latin typeface="Arial"/>
            </a:endParaRPr>
          </a:p>
        </p:txBody>
      </p:sp>
      <p:sp>
        <p:nvSpPr>
          <p:cNvPr id="69" name=""/>
          <p:cNvSpPr/>
          <p:nvPr/>
        </p:nvSpPr>
        <p:spPr>
          <a:xfrm>
            <a:off x="2700360" y="692280"/>
            <a:ext cx="489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y"/>
              </a:rPr>
              <a:t>Pautas</a:t>
            </a:r>
            <a:endParaRPr b="0" lang="en-US" sz="4400" spc="-1" strike="noStrike">
              <a:solidFill>
                <a:srgbClr val="000000"/>
              </a:solidFill>
              <a:latin typeface="Arial"/>
            </a:endParaRPr>
          </a:p>
        </p:txBody>
      </p:sp>
      <p:sp>
        <p:nvSpPr>
          <p:cNvPr id="70" name=""/>
          <p:cNvSpPr/>
          <p:nvPr/>
        </p:nvSpPr>
        <p:spPr>
          <a:xfrm>
            <a:off x="2340000" y="1413000"/>
            <a:ext cx="604836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22B5EF1-CA0C-4554-9E41-A571ECC0B9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971280" y="1341360"/>
            <a:ext cx="6769080" cy="4896000"/>
          </a:xfrm>
          <a:prstGeom prst="rect">
            <a:avLst/>
          </a:prstGeom>
          <a:noFill/>
          <a:ln w="0">
            <a:noFill/>
          </a:ln>
        </p:spPr>
        <p:txBody>
          <a:bodyPr lIns="90000" rIns="90000" tIns="46800" bIns="46800" anchor="t">
            <a:normAutofit/>
          </a:bodyPr>
          <a:p>
            <a:pPr marL="343080" indent="-343080">
              <a:lnSpc>
                <a:spcPct val="11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Asegúrese de que cada persona en la audiencia pueda ver y escuchar el medio audiovisual. </a:t>
            </a:r>
            <a:endParaRPr b="0" lang="en-US" sz="2800" spc="-1" strike="noStrike">
              <a:solidFill>
                <a:srgbClr val="000000"/>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No haga pasar objetos alrededor en la audiencia mientras usted está hablando.</a:t>
            </a:r>
            <a:endParaRPr b="0" lang="en-US" sz="2800" spc="-1" strike="noStrike">
              <a:solidFill>
                <a:srgbClr val="000000"/>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Practique el uso del medio audio- visual antes de la presentación.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B2E133C-878A-4B0E-A61E-47C24FC7B3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042560" y="1846080"/>
            <a:ext cx="6481800" cy="4174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No utilice con exageración las ayudas audiovisuales.</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Asegúrese que esté coordinado lo que se ve con lo que se escucha.</a:t>
            </a:r>
            <a:r>
              <a:rPr b="0" i="1" lang="es-ES" sz="3200" spc="-1" strike="noStrike">
                <a:solidFill>
                  <a:srgbClr val="2a69e8"/>
                </a:solidFill>
                <a:latin typeface="Arial"/>
              </a:rPr>
              <a:t> </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Utilice la técnica revelación.</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CD6C95C6-59D1-4B1F-B4BF-FC4C073AC7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346560" y="2432160"/>
            <a:ext cx="511308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Simplicidad</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Armonía</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Énfasis</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Legibilidad</a:t>
            </a:r>
            <a:endParaRPr b="0" lang="en-US" sz="4000" spc="-1" strike="noStrike">
              <a:solidFill>
                <a:srgbClr val="000000"/>
              </a:solidFill>
              <a:latin typeface="Arial"/>
            </a:endParaRPr>
          </a:p>
        </p:txBody>
      </p:sp>
      <p:sp>
        <p:nvSpPr>
          <p:cNvPr id="74" name=""/>
          <p:cNvSpPr/>
          <p:nvPr/>
        </p:nvSpPr>
        <p:spPr>
          <a:xfrm>
            <a:off x="2556000" y="476280"/>
            <a:ext cx="5400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Principios de Diseño de Ayudas Visuales</a:t>
            </a:r>
            <a:endParaRPr b="0" lang="en-US" sz="4400" spc="-1" strike="noStrike">
              <a:solidFill>
                <a:srgbClr val="000000"/>
              </a:solidFill>
              <a:latin typeface="Arial"/>
            </a:endParaRPr>
          </a:p>
        </p:txBody>
      </p:sp>
      <p:sp>
        <p:nvSpPr>
          <p:cNvPr id="75" name=""/>
          <p:cNvSpPr/>
          <p:nvPr/>
        </p:nvSpPr>
        <p:spPr>
          <a:xfrm>
            <a:off x="2627280" y="1844640"/>
            <a:ext cx="561672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145F9CB-63C9-4B24-A295-B3D71FB987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3706920" y="2360520"/>
            <a:ext cx="424980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Organización</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Equilibrio</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Unidad</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Claridad</a:t>
            </a:r>
            <a:endParaRPr b="0" lang="en-US" sz="4000" spc="-1" strike="noStrike">
              <a:solidFill>
                <a:srgbClr val="000000"/>
              </a:solidFill>
              <a:latin typeface="Arial"/>
            </a:endParaRPr>
          </a:p>
        </p:txBody>
      </p:sp>
      <p:sp>
        <p:nvSpPr>
          <p:cNvPr id="77" name=""/>
          <p:cNvSpPr/>
          <p:nvPr/>
        </p:nvSpPr>
        <p:spPr>
          <a:xfrm>
            <a:off x="2627280" y="333360"/>
            <a:ext cx="5543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Principios de Diseño de Ayudas Visuales</a:t>
            </a:r>
            <a:endParaRPr b="0" lang="en-US" sz="4400" spc="-1" strike="noStrike">
              <a:solidFill>
                <a:srgbClr val="000000"/>
              </a:solidFill>
              <a:latin typeface="Arial"/>
            </a:endParaRPr>
          </a:p>
        </p:txBody>
      </p:sp>
      <p:sp>
        <p:nvSpPr>
          <p:cNvPr id="78" name=""/>
          <p:cNvSpPr/>
          <p:nvPr/>
        </p:nvSpPr>
        <p:spPr>
          <a:xfrm>
            <a:off x="1979640" y="1773360"/>
            <a:ext cx="655308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657546D-F70F-4132-8087-05E4EE3AC9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1104480" y="2575080"/>
            <a:ext cx="7859880" cy="3806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Haga buen uso del espacio en blanco.</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Utilice el color con moderación. </a:t>
            </a:r>
            <a:endParaRPr b="0" lang="en-US" sz="3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Tener texto es correcto; pero hable acerca de él, no lo lea. </a:t>
            </a:r>
            <a:endParaRPr b="0" lang="en-US" sz="3200" spc="-1" strike="noStrike">
              <a:solidFill>
                <a:srgbClr val="000000"/>
              </a:solidFill>
              <a:latin typeface="Arial"/>
            </a:endParaRPr>
          </a:p>
        </p:txBody>
      </p:sp>
      <p:sp>
        <p:nvSpPr>
          <p:cNvPr id="80" name=""/>
          <p:cNvSpPr/>
          <p:nvPr/>
        </p:nvSpPr>
        <p:spPr>
          <a:xfrm>
            <a:off x="2411280" y="620640"/>
            <a:ext cx="64087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Pautas para Realizar Filminas/ Diapositivas de Buena Calidad</a:t>
            </a:r>
            <a:endParaRPr b="0" lang="en-US" sz="4000" spc="-1" strike="noStrike">
              <a:solidFill>
                <a:srgbClr val="000000"/>
              </a:solidFill>
              <a:latin typeface="Arial"/>
            </a:endParaRPr>
          </a:p>
        </p:txBody>
      </p:sp>
      <p:sp>
        <p:nvSpPr>
          <p:cNvPr id="81" name=""/>
          <p:cNvSpPr/>
          <p:nvPr/>
        </p:nvSpPr>
        <p:spPr>
          <a:xfrm>
            <a:off x="1833480" y="1989000"/>
            <a:ext cx="684216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53EEAC7-EA5C-43C6-AD46-953FE7CCC4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590400" y="16398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vite animaciones, a menos que ayuden a aclarar su tema. </a:t>
            </a:r>
            <a:endParaRPr b="0" lang="en-US" sz="32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Asegúrese de que haya buena visibilidad desde el fondo del salón.</a:t>
            </a:r>
            <a:endParaRPr b="0" lang="en-US" sz="32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n general, tipos de letra como la Times New Roman y Courier son más fáciles de leer y se deberían usar para el texto.</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147D126-6D18-4A62-9272-6543AB3B8F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817560" y="1782720"/>
            <a:ext cx="829152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2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Utilice diagramas simples. Nada hará perder más rápido a la audiencia, que un diagrama que no pueda seguir con facilidad.</a:t>
            </a:r>
            <a:endParaRPr b="0" lang="en-US" sz="32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Limite el uso de clip arts.  Empléelos solamente para reforzar su tema.</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58F8C68-98B2-4DDA-8726-836AACAFA2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63480" y="20718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Fondo oscuro con texto clar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Fondo</a:t>
            </a:r>
            <a:r>
              <a:rPr b="1" i="1" lang="es-ES" sz="3200" spc="-1" strike="noStrike">
                <a:solidFill>
                  <a:srgbClr val="3333cc"/>
                </a:solidFill>
                <a:latin typeface="Arial"/>
              </a:rPr>
              <a:t> – un azul o violeta oscuros.</a:t>
            </a:r>
            <a:endParaRPr b="0" lang="en-US" sz="32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Texto</a:t>
            </a:r>
            <a:r>
              <a:rPr b="1" i="1" lang="es-ES" sz="3200" spc="-1" strike="noStrike">
                <a:solidFill>
                  <a:srgbClr val="3333cc"/>
                </a:solidFill>
                <a:latin typeface="Arial"/>
              </a:rPr>
              <a:t> – blanco o amarillo.</a:t>
            </a:r>
            <a:endParaRPr b="0" lang="en-US" sz="3200" spc="-1" strike="noStrike">
              <a:solidFill>
                <a:srgbClr val="000000"/>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Colores para resaltar</a:t>
            </a:r>
            <a:r>
              <a:rPr b="1" i="1" lang="es-ES" sz="3200" spc="-1" strike="noStrike">
                <a:solidFill>
                  <a:srgbClr val="3333cc"/>
                </a:solidFill>
                <a:latin typeface="Arial"/>
              </a:rPr>
              <a:t> – rojo, lima, verde, celeste.</a:t>
            </a:r>
            <a:endParaRPr b="0" lang="en-US" sz="3200" spc="-1" strike="noStrike">
              <a:solidFill>
                <a:srgbClr val="000000"/>
              </a:solidFill>
              <a:latin typeface="Arial"/>
            </a:endParaRPr>
          </a:p>
        </p:txBody>
      </p:sp>
      <p:sp>
        <p:nvSpPr>
          <p:cNvPr id="85" name=""/>
          <p:cNvSpPr/>
          <p:nvPr/>
        </p:nvSpPr>
        <p:spPr>
          <a:xfrm>
            <a:off x="2195640" y="549360"/>
            <a:ext cx="6408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Sugerencias para Combinar Colores</a:t>
            </a:r>
            <a:endParaRPr b="0" lang="en-US" sz="4000" spc="-1" strike="noStrike">
              <a:solidFill>
                <a:srgbClr val="000000"/>
              </a:solidFill>
              <a:latin typeface="Arial"/>
            </a:endParaRPr>
          </a:p>
        </p:txBody>
      </p:sp>
      <p:sp>
        <p:nvSpPr>
          <p:cNvPr id="86" name=""/>
          <p:cNvSpPr/>
          <p:nvPr/>
        </p:nvSpPr>
        <p:spPr>
          <a:xfrm>
            <a:off x="1979640" y="1773360"/>
            <a:ext cx="66247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DABEC46-DD7C-42AB-9BD4-44AB6F4BB2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57080" y="1052280"/>
            <a:ext cx="7560000" cy="504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2a69e8"/>
                </a:solidFill>
                <a:latin typeface="Arial"/>
              </a:rPr>
              <a:t>La fuerza más importante de nuestra generación actual, sin lugar a dudas, es el procesamiento de información y la forma de transmitirla y recibirla.</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BD05C0B9-CEC7-4A15-BF7E-D2FF485B29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735120" y="1123560"/>
            <a:ext cx="8229600" cy="5041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Fondo claro con texto oscur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Fondo</a:t>
            </a:r>
            <a:r>
              <a:rPr b="1" i="1" lang="es-ES" sz="3200" spc="-1" strike="noStrike">
                <a:solidFill>
                  <a:srgbClr val="3333cc"/>
                </a:solidFill>
                <a:latin typeface="Arial"/>
              </a:rPr>
              <a:t> – beige.</a:t>
            </a:r>
            <a:endParaRPr b="0" lang="en-US" sz="3200" spc="-1" strike="noStrike">
              <a:solidFill>
                <a:srgbClr val="000000"/>
              </a:solidFill>
              <a:latin typeface="Arial"/>
            </a:endParaRPr>
          </a:p>
          <a:p>
            <a:pPr marL="343080" indent="0">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Texto</a:t>
            </a:r>
            <a:r>
              <a:rPr b="1" i="1" lang="es-ES" sz="3200" spc="-1" strike="noStrike" u="sng">
                <a:solidFill>
                  <a:srgbClr val="3333cc"/>
                </a:solidFill>
                <a:uFillTx/>
                <a:latin typeface="Arial"/>
              </a:rPr>
              <a:t> </a:t>
            </a:r>
            <a:r>
              <a:rPr b="1" i="1" lang="es-ES" sz="3200" spc="-1" strike="noStrike">
                <a:solidFill>
                  <a:srgbClr val="3333cc"/>
                </a:solidFill>
                <a:latin typeface="Arial"/>
              </a:rPr>
              <a:t>– azul oscuro, negro, violeta oscuro.</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Colores para resaltar</a:t>
            </a:r>
            <a:r>
              <a:rPr b="1" i="1" lang="es-ES" sz="3200" spc="-1" strike="noStrike">
                <a:solidFill>
                  <a:srgbClr val="3333cc"/>
                </a:solidFill>
                <a:latin typeface="Arial"/>
              </a:rPr>
              <a:t> – verde oscuro, rojo oscuro.</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BC34BA8-0AD5-4221-B211-3F5BF40ED8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6840" y="2249280"/>
            <a:ext cx="8435880" cy="3700440"/>
          </a:xfrm>
          <a:prstGeom prst="rect">
            <a:avLst/>
          </a:prstGeom>
          <a:noFill/>
          <a:ln w="0">
            <a:noFill/>
          </a:ln>
        </p:spPr>
        <p:txBody>
          <a:bodyPr lIns="90000" rIns="90000" tIns="46800" bIns="46800" anchor="t">
            <a:normAutofit/>
          </a:bodyPr>
          <a:p>
            <a:pPr marL="343080" indent="-34308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No más de cuatro colores por diapositiva.</a:t>
            </a:r>
            <a:endParaRPr b="0" lang="en-US" sz="2800" spc="-1" strike="noStrike">
              <a:solidFill>
                <a:srgbClr val="000000"/>
              </a:solidFill>
              <a:latin typeface="Arial"/>
            </a:endParaRPr>
          </a:p>
          <a:p>
            <a:pPr marL="343080" indent="-34308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Olvídese de los colores hasta el final.</a:t>
            </a:r>
            <a:endParaRPr b="0" lang="en-US" sz="2800" spc="-1" strike="noStrike">
              <a:solidFill>
                <a:srgbClr val="000000"/>
              </a:solidFill>
              <a:latin typeface="Arial"/>
            </a:endParaRPr>
          </a:p>
          <a:p>
            <a:pPr marL="343080" indent="-34308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Use letras brillantes o blancas sobre fondos oscuros.</a:t>
            </a:r>
            <a:endParaRPr b="0" lang="en-US" sz="2800" spc="-1" strike="noStrike">
              <a:solidFill>
                <a:srgbClr val="000000"/>
              </a:solidFill>
              <a:latin typeface="Arial"/>
            </a:endParaRPr>
          </a:p>
          <a:p>
            <a:pPr marL="343080" indent="-34308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vite el uso de colores similares, como ser: rojo y anaranjado; son difíciles de leer.</a:t>
            </a:r>
            <a:endParaRPr b="0" lang="en-US" sz="2800" spc="-1" strike="noStrike">
              <a:solidFill>
                <a:srgbClr val="000000"/>
              </a:solidFill>
              <a:latin typeface="Arial"/>
            </a:endParaRPr>
          </a:p>
        </p:txBody>
      </p:sp>
      <p:sp>
        <p:nvSpPr>
          <p:cNvPr id="89" name=""/>
          <p:cNvSpPr/>
          <p:nvPr/>
        </p:nvSpPr>
        <p:spPr>
          <a:xfrm>
            <a:off x="2484360" y="404640"/>
            <a:ext cx="54007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Reglas para la Combinación de Colores</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CB8300A9-B77C-43C3-98EB-5F203A768F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1200" y="1784160"/>
            <a:ext cx="7931160" cy="3949560"/>
          </a:xfrm>
          <a:prstGeom prst="rect">
            <a:avLst/>
          </a:prstGeom>
          <a:noFill/>
          <a:ln w="0">
            <a:noFill/>
          </a:ln>
        </p:spPr>
        <p:txBody>
          <a:bodyPr lIns="90000" rIns="90000" tIns="46800" bIns="46800" anchor="t">
            <a:normAutofit/>
          </a:bodyPr>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Para lograr un sonido de alta calidad se necesita un equipo de sonido de buena calidad.</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Una grabación en estéreo tiene mejor sonido.</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La mejor manera de almacenar el audio es en formato digital.</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La calidad del video depende de la resolución que utilice.</a:t>
            </a:r>
            <a:r>
              <a:rPr b="0" i="1" lang="es-ES" sz="2400" spc="-1" strike="noStrike">
                <a:solidFill>
                  <a:srgbClr val="3333cc"/>
                </a:solidFill>
                <a:latin typeface="Arial"/>
              </a:rPr>
              <a:t> </a:t>
            </a:r>
            <a:endParaRPr b="0" lang="en-US" sz="2400" spc="-1" strike="noStrike">
              <a:solidFill>
                <a:srgbClr val="000000"/>
              </a:solidFill>
              <a:latin typeface="Arial"/>
            </a:endParaRPr>
          </a:p>
        </p:txBody>
      </p:sp>
      <p:pic>
        <p:nvPicPr>
          <p:cNvPr id="91" name="" descr=""/>
          <p:cNvPicPr/>
          <p:nvPr/>
        </p:nvPicPr>
        <p:blipFill>
          <a:blip r:embed="rId2"/>
          <a:stretch/>
        </p:blipFill>
        <p:spPr>
          <a:xfrm>
            <a:off x="5508720" y="5157720"/>
            <a:ext cx="3168720" cy="1522440"/>
          </a:xfrm>
          <a:prstGeom prst="rect">
            <a:avLst/>
          </a:prstGeom>
          <a:ln w="0">
            <a:noFill/>
          </a:ln>
        </p:spPr>
      </p:pic>
      <p:sp>
        <p:nvSpPr>
          <p:cNvPr id="92" name=""/>
          <p:cNvSpPr/>
          <p:nvPr/>
        </p:nvSpPr>
        <p:spPr>
          <a:xfrm>
            <a:off x="2411280" y="6922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Reglas para Audio y Video</a:t>
            </a:r>
            <a:endParaRPr b="0" lang="en-US" sz="4000" spc="-1" strike="noStrike">
              <a:solidFill>
                <a:srgbClr val="000000"/>
              </a:solidFill>
              <a:latin typeface="Arial"/>
            </a:endParaRPr>
          </a:p>
        </p:txBody>
      </p:sp>
      <p:sp>
        <p:nvSpPr>
          <p:cNvPr id="93" name=""/>
          <p:cNvSpPr/>
          <p:nvPr/>
        </p:nvSpPr>
        <p:spPr>
          <a:xfrm>
            <a:off x="2195640" y="1413000"/>
            <a:ext cx="61214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1B9794E-085C-4C77-8553-F2659C61E5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195280" y="1711440"/>
            <a:ext cx="6337080" cy="452592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Los rotafolios no necesitan electricidad.</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Los rotafolios son económicos.</a:t>
            </a:r>
            <a:r>
              <a:rPr b="0" lang="es-ES" sz="2800" spc="-1" strike="noStrike">
                <a:solidFill>
                  <a:srgbClr val="3333cc"/>
                </a:solidFill>
                <a:latin typeface="Arial"/>
              </a:rPr>
              <a:t> </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Se le puede añadir color con facilidad.</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Los rotafolios permiten la espontaneidad.</a:t>
            </a:r>
            <a:endParaRPr b="0" lang="en-US" sz="2800" spc="-1" strike="noStrike">
              <a:solidFill>
                <a:srgbClr val="000000"/>
              </a:solidFill>
              <a:latin typeface="Arial"/>
            </a:endParaRPr>
          </a:p>
        </p:txBody>
      </p:sp>
      <p:sp>
        <p:nvSpPr>
          <p:cNvPr id="95" name=""/>
          <p:cNvSpPr/>
          <p:nvPr/>
        </p:nvSpPr>
        <p:spPr>
          <a:xfrm>
            <a:off x="2556000" y="404640"/>
            <a:ext cx="590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Ventajas del Empleo de Rotafolios</a:t>
            </a:r>
            <a:endParaRPr b="0" lang="en-US" sz="4000" spc="-1" strike="noStrike">
              <a:solidFill>
                <a:srgbClr val="000000"/>
              </a:solidFill>
              <a:latin typeface="Arial"/>
            </a:endParaRPr>
          </a:p>
        </p:txBody>
      </p:sp>
      <p:sp>
        <p:nvSpPr>
          <p:cNvPr id="96" name=""/>
          <p:cNvSpPr/>
          <p:nvPr/>
        </p:nvSpPr>
        <p:spPr>
          <a:xfrm>
            <a:off x="2124000" y="1628640"/>
            <a:ext cx="66247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38C7532-DEA2-4AEB-B802-280FC878DD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68000" y="1917720"/>
            <a:ext cx="5398920" cy="44640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Asegúrese que el rotafolio corresponde con el atril. </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Si dibuja muchas líneas derechas, podría resultar útil emplear papel cuadriculado. </a:t>
            </a: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Diseñe sus ayudas visual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	</a:t>
            </a:r>
            <a:r>
              <a:rPr b="1" i="1" lang="es-ES" sz="2400" spc="-1" strike="noStrike">
                <a:solidFill>
                  <a:srgbClr val="3333cc"/>
                </a:solidFill>
                <a:latin typeface="Arial"/>
              </a:rPr>
              <a:t>en papel normal antes de pasar a rotafolio.</a:t>
            </a: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Emplee los marcador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	</a:t>
            </a:r>
            <a:r>
              <a:rPr b="1" i="1" lang="es-ES" sz="2400" spc="-1" strike="noStrike">
                <a:solidFill>
                  <a:srgbClr val="3333cc"/>
                </a:solidFill>
                <a:latin typeface="Arial"/>
              </a:rPr>
              <a:t>adecuados. </a:t>
            </a:r>
            <a:endParaRPr b="0" lang="en-US" sz="2400" spc="-1" strike="noStrike">
              <a:solidFill>
                <a:srgbClr val="000000"/>
              </a:solidFill>
              <a:latin typeface="Arial"/>
            </a:endParaRPr>
          </a:p>
        </p:txBody>
      </p:sp>
      <p:sp>
        <p:nvSpPr>
          <p:cNvPr id="98" name=""/>
          <p:cNvSpPr/>
          <p:nvPr/>
        </p:nvSpPr>
        <p:spPr>
          <a:xfrm>
            <a:off x="2484360" y="404640"/>
            <a:ext cx="590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Cómo Maximizar el Empleo de Rotafolio</a:t>
            </a:r>
            <a:endParaRPr b="0" lang="en-US" sz="4000" spc="-1" strike="noStrike">
              <a:solidFill>
                <a:srgbClr val="000000"/>
              </a:solidFill>
              <a:latin typeface="Arial"/>
            </a:endParaRPr>
          </a:p>
        </p:txBody>
      </p:sp>
      <p:sp>
        <p:nvSpPr>
          <p:cNvPr id="99" name=""/>
          <p:cNvSpPr/>
          <p:nvPr/>
        </p:nvSpPr>
        <p:spPr>
          <a:xfrm>
            <a:off x="2556000" y="1628640"/>
            <a:ext cx="6048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A021BE4-8D81-4C3F-9738-6CEDE0F0FD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18760" y="2422440"/>
            <a:ext cx="8373960" cy="2519280"/>
          </a:xfrm>
          <a:prstGeom prst="rect">
            <a:avLst/>
          </a:prstGeom>
          <a:noFill/>
          <a:ln w="0">
            <a:noFill/>
          </a:ln>
        </p:spPr>
        <p:txBody>
          <a:bodyPr lIns="90000" rIns="90000" tIns="46800" bIns="46800" anchor="t">
            <a:normAutofit/>
          </a:bodyPr>
          <a:p>
            <a:pPr marL="343080" indent="-343080">
              <a:spcBef>
                <a:spcPts val="8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33cc"/>
                </a:solidFill>
                <a:latin typeface="Arial"/>
              </a:rPr>
              <a:t>Escriba el texto y los títulos en forma clara y prolija.</a:t>
            </a:r>
            <a:endParaRPr b="0" lang="en-US" sz="3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33cc"/>
                </a:solidFill>
                <a:latin typeface="Arial"/>
              </a:rPr>
              <a:t>No escriba todo en mayúsculas. </a:t>
            </a:r>
            <a:endParaRPr b="0" lang="en-US" sz="3400" spc="-1" strike="noStrike">
              <a:solidFill>
                <a:srgbClr val="000000"/>
              </a:solidFill>
              <a:latin typeface="Arial"/>
            </a:endParaRPr>
          </a:p>
        </p:txBody>
      </p:sp>
      <p:sp>
        <p:nvSpPr>
          <p:cNvPr id="101" name=""/>
          <p:cNvSpPr/>
          <p:nvPr/>
        </p:nvSpPr>
        <p:spPr>
          <a:xfrm>
            <a:off x="2484360" y="333360"/>
            <a:ext cx="5689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Cómo Maximizar el Empleo de Rotafolio</a:t>
            </a:r>
            <a:endParaRPr b="0" lang="en-US" sz="4000" spc="-1" strike="noStrike">
              <a:solidFill>
                <a:srgbClr val="000000"/>
              </a:solidFill>
              <a:latin typeface="Arial"/>
            </a:endParaRPr>
          </a:p>
        </p:txBody>
      </p:sp>
      <p:sp>
        <p:nvSpPr>
          <p:cNvPr id="102" name=""/>
          <p:cNvSpPr/>
          <p:nvPr/>
        </p:nvSpPr>
        <p:spPr>
          <a:xfrm>
            <a:off x="2124000" y="1557360"/>
            <a:ext cx="66247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E452410-68FA-48DD-9AF9-DEE8AB8F4B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050920" y="556920"/>
            <a:ext cx="6562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Cómo Maximizar el Empleo de Rotafolio</a:t>
            </a:r>
            <a:endParaRPr b="0" lang="en-US" sz="4000" spc="-1" strike="noStrike">
              <a:solidFill>
                <a:srgbClr val="000000"/>
              </a:solidFill>
              <a:latin typeface="Arial"/>
            </a:endParaRPr>
          </a:p>
        </p:txBody>
      </p:sp>
      <p:sp>
        <p:nvSpPr>
          <p:cNvPr id="104" name="PlaceHolder 2"/>
          <p:cNvSpPr>
            <a:spLocks noGrp="1"/>
          </p:cNvSpPr>
          <p:nvPr>
            <p:ph/>
          </p:nvPr>
        </p:nvSpPr>
        <p:spPr>
          <a:xfrm>
            <a:off x="590400" y="2680920"/>
            <a:ext cx="8229600" cy="2476440"/>
          </a:xfrm>
          <a:prstGeom prst="rect">
            <a:avLst/>
          </a:prstGeom>
          <a:noFill/>
          <a:ln w="0">
            <a:noFill/>
          </a:ln>
        </p:spPr>
        <p:txBody>
          <a:bodyPr lIns="90000" rIns="90000" tIns="46800" bIns="46800" anchor="t">
            <a:normAutofit/>
          </a:bodyPr>
          <a:p>
            <a:pPr marL="343080" indent="-343080">
              <a:spcBef>
                <a:spcPts val="8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33cc"/>
                </a:solidFill>
                <a:latin typeface="Arial"/>
              </a:rPr>
              <a:t>Recuerde que el rotafolio es una AYUDA visual. Si no realza su presentación, puede llegar </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33cc"/>
                </a:solidFill>
                <a:latin typeface="Arial"/>
              </a:rPr>
              <a:t>	</a:t>
            </a:r>
            <a:r>
              <a:rPr b="1" i="1" lang="es-ES" sz="3400" spc="-1" strike="noStrike">
                <a:solidFill>
                  <a:srgbClr val="3333cc"/>
                </a:solidFill>
                <a:latin typeface="Arial"/>
              </a:rPr>
              <a:t>a ser un estorbo.</a:t>
            </a:r>
            <a:endParaRPr b="0" lang="en-US" sz="3400" spc="-1" strike="noStrike">
              <a:solidFill>
                <a:srgbClr val="000000"/>
              </a:solidFill>
              <a:latin typeface="Arial"/>
            </a:endParaRPr>
          </a:p>
        </p:txBody>
      </p:sp>
      <p:sp>
        <p:nvSpPr>
          <p:cNvPr id="105" name=""/>
          <p:cNvSpPr/>
          <p:nvPr/>
        </p:nvSpPr>
        <p:spPr>
          <a:xfrm>
            <a:off x="1476360" y="1989000"/>
            <a:ext cx="71992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A01BF19-2A71-44D2-80B9-3B5069DA59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29920" y="1639800"/>
            <a:ext cx="821844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El secreto de un buen diagrama es hacerlo simple para comunicar.</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Cómo hacer diagramas que comuniquen su mensaje.</a:t>
            </a:r>
            <a:endParaRPr b="0" lang="en-US" sz="2800" spc="-1" strike="noStrike">
              <a:solidFill>
                <a:srgbClr val="000000"/>
              </a:solidFill>
              <a:latin typeface="Arial"/>
            </a:endParaRPr>
          </a:p>
          <a:p>
            <a:pPr marL="34308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   </a:t>
            </a:r>
            <a:r>
              <a:rPr b="1" i="1" lang="es-ES" sz="2800" spc="-1" strike="noStrike">
                <a:solidFill>
                  <a:srgbClr val="3333cc"/>
                </a:solidFill>
                <a:latin typeface="Arial"/>
              </a:rPr>
              <a:t>Para simplificar un cartel a menudo se necesita cambiar el formato de la hoja; por ejemplo de vertical a horizontal, porque comunica el mensaje más efectivamente.</a:t>
            </a:r>
            <a:endParaRPr b="0" lang="en-US" sz="2800" spc="-1" strike="noStrike">
              <a:solidFill>
                <a:srgbClr val="000000"/>
              </a:solidFill>
              <a:latin typeface="Arial"/>
            </a:endParaRPr>
          </a:p>
        </p:txBody>
      </p:sp>
      <p:sp>
        <p:nvSpPr>
          <p:cNvPr id="107" name=""/>
          <p:cNvSpPr/>
          <p:nvPr/>
        </p:nvSpPr>
        <p:spPr>
          <a:xfrm>
            <a:off x="2627280" y="692280"/>
            <a:ext cx="540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y"/>
              </a:rPr>
              <a:t>Uso de Gráficos</a:t>
            </a:r>
            <a:endParaRPr b="0" lang="en-US" sz="4400" spc="-1" strike="noStrike">
              <a:solidFill>
                <a:srgbClr val="000000"/>
              </a:solidFill>
              <a:latin typeface="Arial"/>
            </a:endParaRPr>
          </a:p>
        </p:txBody>
      </p:sp>
      <p:sp>
        <p:nvSpPr>
          <p:cNvPr id="108" name=""/>
          <p:cNvSpPr/>
          <p:nvPr/>
        </p:nvSpPr>
        <p:spPr>
          <a:xfrm>
            <a:off x="2556000" y="1484280"/>
            <a:ext cx="61196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97FD69E-64F1-46DC-A852-19818181B0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11280" y="2142720"/>
            <a:ext cx="8229600" cy="4165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Comunique un mensaje por diagrama. Que el encabezamiento sea el mensaje que quiere transmitir.</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Que el diagrama sea fácil de leer.</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Sea exacto. Siempre comience un eje numérico en cero.</a:t>
            </a:r>
            <a:r>
              <a:rPr b="0" i="1" lang="es-ES" sz="3200" spc="-1" strike="noStrike">
                <a:solidFill>
                  <a:srgbClr val="3333cc"/>
                </a:solidFill>
                <a:latin typeface="Arial"/>
              </a:rPr>
              <a:t> </a:t>
            </a:r>
            <a:endParaRPr b="0" lang="en-US" sz="3200" spc="-1" strike="noStrike">
              <a:solidFill>
                <a:srgbClr val="000000"/>
              </a:solidFill>
              <a:latin typeface="Arial"/>
            </a:endParaRPr>
          </a:p>
        </p:txBody>
      </p:sp>
      <p:sp>
        <p:nvSpPr>
          <p:cNvPr id="110" name=""/>
          <p:cNvSpPr/>
          <p:nvPr/>
        </p:nvSpPr>
        <p:spPr>
          <a:xfrm>
            <a:off x="2411280" y="476280"/>
            <a:ext cx="59058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Pautas para Hacer Diagramas de Buena Calidad</a:t>
            </a:r>
            <a:endParaRPr b="0" lang="en-US" sz="4000" spc="-1" strike="noStrike">
              <a:solidFill>
                <a:srgbClr val="000000"/>
              </a:solidFill>
              <a:latin typeface="Arial"/>
            </a:endParaRPr>
          </a:p>
        </p:txBody>
      </p:sp>
      <p:sp>
        <p:nvSpPr>
          <p:cNvPr id="111" name=""/>
          <p:cNvSpPr/>
          <p:nvPr/>
        </p:nvSpPr>
        <p:spPr>
          <a:xfrm>
            <a:off x="2484360" y="1773360"/>
            <a:ext cx="61912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C48B77A-E242-415B-9DA3-046D0BF0FD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63480" y="1700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limine todo detalle innecesari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No emplee más de cuatro colores por hoj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vite líneas contrastantes, patrones en forma de ondas y líneas cruzada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BF315FB9-6C37-4A48-B34F-EEF8962200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6840" y="1566720"/>
            <a:ext cx="4978440" cy="2941920"/>
          </a:xfrm>
          <a:prstGeom prst="rect">
            <a:avLst/>
          </a:prstGeom>
          <a:noFill/>
          <a:ln w="0">
            <a:noFill/>
          </a:ln>
          <a:effectLst>
            <a:outerShdw dist="17819" dir="2700000" blurRad="0" rotWithShape="0">
              <a:srgbClr val="000000"/>
            </a:outerShdw>
          </a:effectLst>
        </p:spPr>
        <p:txBody>
          <a:bodyPr lIns="90000" rIns="90000" tIns="46800" bIns="46800" anchor="t">
            <a:normAutofit fontScale="80000"/>
          </a:bodyPr>
          <a:p>
            <a:pPr marL="274320" indent="0" algn="ctr">
              <a:lnSpc>
                <a:spcPct val="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7432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2a69e8"/>
                </a:solidFill>
                <a:latin typeface="Arial"/>
              </a:rPr>
              <a:t>Definición</a:t>
            </a:r>
            <a:endParaRPr b="0" lang="en-US" sz="3600" spc="-1" strike="noStrike">
              <a:solidFill>
                <a:srgbClr val="000000"/>
              </a:solidFill>
              <a:latin typeface="Arial"/>
            </a:endParaRPr>
          </a:p>
          <a:p>
            <a:pPr marL="27432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Las ayudas audiovisuales son cualquier cosa que la audiencia pueda ver, que ayuden al orador a alcanzarla  con su mensaje.</a:t>
            </a:r>
            <a:r>
              <a:rPr b="0" i="1" lang="es-ES" sz="2800" spc="-1" strike="noStrike">
                <a:solidFill>
                  <a:srgbClr val="2a69e8"/>
                </a:solidFill>
                <a:latin typeface="Arial"/>
              </a:rPr>
              <a:t> </a:t>
            </a:r>
            <a:endParaRPr b="0" lang="en-US" sz="2800" spc="-1" strike="noStrike">
              <a:solidFill>
                <a:srgbClr val="000000"/>
              </a:solidFill>
              <a:latin typeface="Arial"/>
            </a:endParaRPr>
          </a:p>
        </p:txBody>
      </p:sp>
      <p:sp>
        <p:nvSpPr>
          <p:cNvPr id="52" name=""/>
          <p:cNvSpPr/>
          <p:nvPr/>
        </p:nvSpPr>
        <p:spPr>
          <a:xfrm>
            <a:off x="1763640" y="333360"/>
            <a:ext cx="6985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Por qué Utilizar los Recursos Audiovisuales?</a:t>
            </a:r>
            <a:endParaRPr b="0" lang="en-US" sz="4400" spc="-1" strike="noStrike">
              <a:solidFill>
                <a:srgbClr val="000000"/>
              </a:solidFill>
              <a:latin typeface="Arial"/>
            </a:endParaRPr>
          </a:p>
        </p:txBody>
      </p:sp>
      <p:sp>
        <p:nvSpPr>
          <p:cNvPr id="53" name=""/>
          <p:cNvSpPr/>
          <p:nvPr/>
        </p:nvSpPr>
        <p:spPr>
          <a:xfrm>
            <a:off x="1835280" y="1700280"/>
            <a:ext cx="619272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BB20E09-1AE2-48D0-BB83-829902911D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4360" y="162864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Para enfocar la atención emplee: color, sombras, imágenes como flechas para resaltar palabras claves o conceptos.</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scriba en mayúsculas y minúsculas.</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3333cc"/>
                </a:solidFill>
                <a:latin typeface="Arial"/>
              </a:rPr>
              <a:t> </a:t>
            </a:r>
            <a:endParaRPr b="0" lang="en-US" sz="10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Diseñe las barras y columnas más anchas que los espacios que las separan.</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Use presentaciones de software perceptible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85BC917-CB78-44C8-8359-DCEF728FE0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474560" y="1413000"/>
            <a:ext cx="6769080" cy="503280"/>
          </a:xfrm>
          <a:prstGeom prst="rect">
            <a:avLst/>
          </a:prstGeom>
          <a:noFill/>
          <a:ln w="0">
            <a:noFill/>
          </a:ln>
        </p:spPr>
        <p:txBody>
          <a:bodyPr lIns="90000" rIns="90000" tIns="46800" bIns="46800" anchor="t">
            <a:normAutofit fontScale="83000"/>
          </a:bodyPr>
          <a:p>
            <a:pPr marL="2844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rPr>
              <a:t>Diagrama de barra horizontal </a:t>
            </a:r>
            <a:endParaRPr b="0" lang="en-US" sz="3600" spc="-1" strike="noStrike">
              <a:solidFill>
                <a:srgbClr val="000000"/>
              </a:solidFill>
              <a:latin typeface="Arial"/>
            </a:endParaRPr>
          </a:p>
        </p:txBody>
      </p:sp>
      <p:pic>
        <p:nvPicPr>
          <p:cNvPr id="115" name="" descr="Bar Chart"/>
          <p:cNvPicPr/>
          <p:nvPr/>
        </p:nvPicPr>
        <p:blipFill>
          <a:blip r:embed="rId2"/>
          <a:stretch/>
        </p:blipFill>
        <p:spPr>
          <a:xfrm>
            <a:off x="826920" y="2205000"/>
            <a:ext cx="7490160" cy="4032360"/>
          </a:xfrm>
          <a:prstGeom prst="rect">
            <a:avLst/>
          </a:prstGeom>
          <a:ln w="9360">
            <a:solidFill>
              <a:srgbClr val="ffffff"/>
            </a:solidFill>
            <a:miter/>
          </a:ln>
        </p:spPr>
      </p:pic>
      <p:sp>
        <p:nvSpPr>
          <p:cNvPr id="116" name=""/>
          <p:cNvSpPr/>
          <p:nvPr/>
        </p:nvSpPr>
        <p:spPr>
          <a:xfrm>
            <a:off x="2698920" y="476280"/>
            <a:ext cx="5760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Ejemplos de Diagramas</a:t>
            </a:r>
            <a:endParaRPr b="0" lang="en-US" sz="4000" spc="-1" strike="noStrike">
              <a:solidFill>
                <a:srgbClr val="000000"/>
              </a:solidFill>
              <a:latin typeface="Arial"/>
            </a:endParaRPr>
          </a:p>
        </p:txBody>
      </p:sp>
      <p:sp>
        <p:nvSpPr>
          <p:cNvPr id="117" name=""/>
          <p:cNvSpPr/>
          <p:nvPr/>
        </p:nvSpPr>
        <p:spPr>
          <a:xfrm>
            <a:off x="2700360" y="1268280"/>
            <a:ext cx="5832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C3B9972-F95C-4868-99F5-929AD5A284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50560" y="27432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33cc"/>
                </a:solidFill>
                <a:latin typeface="Arial"/>
              </a:rPr>
              <a:t>Diagrama de Líneas</a:t>
            </a:r>
            <a:endParaRPr b="0" lang="en-US" sz="4400" spc="-1" strike="noStrike">
              <a:solidFill>
                <a:srgbClr val="000000"/>
              </a:solidFill>
              <a:latin typeface="Arial"/>
            </a:endParaRPr>
          </a:p>
        </p:txBody>
      </p:sp>
      <p:pic>
        <p:nvPicPr>
          <p:cNvPr id="119" name="" descr="Line Chart"/>
          <p:cNvPicPr/>
          <p:nvPr/>
        </p:nvPicPr>
        <p:blipFill>
          <a:blip r:embed="rId2"/>
          <a:stretch/>
        </p:blipFill>
        <p:spPr>
          <a:xfrm>
            <a:off x="826920" y="1557360"/>
            <a:ext cx="7490160" cy="4614840"/>
          </a:xfrm>
          <a:prstGeom prst="rect">
            <a:avLst/>
          </a:prstGeom>
          <a:ln w="9360">
            <a:solidFill>
              <a:srgbClr val="ffffff"/>
            </a:solidFill>
            <a:miter/>
          </a:ln>
        </p:spPr>
      </p:pic>
      <p:sp>
        <p:nvSpPr>
          <p:cNvPr id="3" name="PlaceHolder 2"/>
          <p:cNvSpPr>
            <a:spLocks noGrp="1"/>
          </p:cNvSpPr>
          <p:nvPr>
            <p:ph type="sldNum" idx="3"/>
          </p:nvPr>
        </p:nvSpPr>
        <p:spPr/>
        <p:txBody>
          <a:bodyPr/>
          <a:p>
            <a:fld id="{22FAF26B-1BE6-47FE-A302-2762DA5E01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124000" y="274320"/>
            <a:ext cx="65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Diagrama Vertical</a:t>
            </a:r>
            <a:endParaRPr b="0" lang="en-US" sz="4000" spc="-1" strike="noStrike">
              <a:solidFill>
                <a:srgbClr val="000000"/>
              </a:solidFill>
              <a:latin typeface="Arial"/>
            </a:endParaRPr>
          </a:p>
        </p:txBody>
      </p:sp>
      <p:pic>
        <p:nvPicPr>
          <p:cNvPr id="121" name="" descr="Column Chart"/>
          <p:cNvPicPr/>
          <p:nvPr/>
        </p:nvPicPr>
        <p:blipFill>
          <a:blip r:embed="rId2"/>
          <a:stretch/>
        </p:blipFill>
        <p:spPr>
          <a:xfrm>
            <a:off x="1042920" y="1628640"/>
            <a:ext cx="7345440" cy="4481640"/>
          </a:xfrm>
          <a:prstGeom prst="rect">
            <a:avLst/>
          </a:prstGeom>
          <a:ln w="9360">
            <a:solidFill>
              <a:srgbClr val="ffffff"/>
            </a:solidFill>
            <a:miter/>
          </a:ln>
        </p:spPr>
      </p:pic>
      <p:sp>
        <p:nvSpPr>
          <p:cNvPr id="3" name="PlaceHolder 2"/>
          <p:cNvSpPr>
            <a:spLocks noGrp="1"/>
          </p:cNvSpPr>
          <p:nvPr>
            <p:ph type="sldNum" idx="3"/>
          </p:nvPr>
        </p:nvSpPr>
        <p:spPr/>
        <p:txBody>
          <a:bodyPr/>
          <a:p>
            <a:fld id="{A792A5EF-E3CE-4B9C-B5A6-1CDCB4DE572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Diagrama circular</a:t>
            </a:r>
            <a:endParaRPr b="0" lang="en-US" sz="4000" spc="-1" strike="noStrike">
              <a:solidFill>
                <a:srgbClr val="000000"/>
              </a:solidFill>
              <a:latin typeface="Arial"/>
            </a:endParaRPr>
          </a:p>
        </p:txBody>
      </p:sp>
      <p:pic>
        <p:nvPicPr>
          <p:cNvPr id="123" name="" descr="Pie Chart"/>
          <p:cNvPicPr/>
          <p:nvPr/>
        </p:nvPicPr>
        <p:blipFill>
          <a:blip r:embed="rId2"/>
          <a:stretch/>
        </p:blipFill>
        <p:spPr>
          <a:xfrm>
            <a:off x="826920" y="1557360"/>
            <a:ext cx="7490160" cy="4680000"/>
          </a:xfrm>
          <a:prstGeom prst="rect">
            <a:avLst/>
          </a:prstGeom>
          <a:ln w="9360">
            <a:solidFill>
              <a:srgbClr val="ffffff"/>
            </a:solidFill>
            <a:miter/>
          </a:ln>
        </p:spPr>
      </p:pic>
      <p:sp>
        <p:nvSpPr>
          <p:cNvPr id="3" name="PlaceHolder 2"/>
          <p:cNvSpPr>
            <a:spLocks noGrp="1"/>
          </p:cNvSpPr>
          <p:nvPr>
            <p:ph type="sldNum" idx="3"/>
          </p:nvPr>
        </p:nvSpPr>
        <p:spPr/>
        <p:txBody>
          <a:bodyPr/>
          <a:p>
            <a:fld id="{5BB96419-720B-40B4-AE53-0EFE29D8D7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729720" y="1754640"/>
            <a:ext cx="2279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Times New Roman"/>
              </a:rPr>
              <a:t>Rosado y Jade</a:t>
            </a:r>
            <a:endParaRPr b="0" lang="en-US" sz="2400" spc="-1" strike="noStrike">
              <a:solidFill>
                <a:srgbClr val="000000"/>
              </a:solidFill>
              <a:latin typeface="Arial"/>
            </a:endParaRPr>
          </a:p>
        </p:txBody>
      </p:sp>
      <p:graphicFrame>
        <p:nvGraphicFramePr>
          <p:cNvPr id="125" name=""/>
          <p:cNvGraphicFramePr/>
          <p:nvPr/>
        </p:nvGraphicFramePr>
        <p:xfrm>
          <a:off x="2124000" y="2205000"/>
          <a:ext cx="5229360" cy="517680"/>
        </p:xfrm>
        <a:graphic>
          <a:graphicData uri="http://schemas.openxmlformats.org/drawingml/2006/table">
            <a:tbl>
              <a:tblPr/>
              <a:tblGrid>
                <a:gridCol w="746280"/>
                <a:gridCol w="747720"/>
                <a:gridCol w="74592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sp>
        <p:nvSpPr>
          <p:cNvPr id="126" name=""/>
          <p:cNvSpPr/>
          <p:nvPr/>
        </p:nvSpPr>
        <p:spPr>
          <a:xfrm>
            <a:off x="644400" y="3067560"/>
            <a:ext cx="2593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ea typeface="Times New Roman"/>
              </a:rPr>
              <a:t>Reflejos de luna</a:t>
            </a:r>
            <a:endParaRPr b="0" lang="en-US" sz="2400" spc="-1" strike="noStrike">
              <a:solidFill>
                <a:srgbClr val="000000"/>
              </a:solidFill>
              <a:latin typeface="Arial"/>
            </a:endParaRPr>
          </a:p>
        </p:txBody>
      </p:sp>
      <p:graphicFrame>
        <p:nvGraphicFramePr>
          <p:cNvPr id="127" name=""/>
          <p:cNvGraphicFramePr/>
          <p:nvPr/>
        </p:nvGraphicFramePr>
        <p:xfrm>
          <a:off x="2124000" y="3500280"/>
          <a:ext cx="5229360" cy="517320"/>
        </p:xfrm>
        <a:graphic>
          <a:graphicData uri="http://schemas.openxmlformats.org/drawingml/2006/table">
            <a:tbl>
              <a:tblPr/>
              <a:tblGrid>
                <a:gridCol w="746280"/>
                <a:gridCol w="765000"/>
                <a:gridCol w="72864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sp>
        <p:nvSpPr>
          <p:cNvPr id="128" name=""/>
          <p:cNvSpPr/>
          <p:nvPr/>
        </p:nvSpPr>
        <p:spPr>
          <a:xfrm>
            <a:off x="729360" y="4219920"/>
            <a:ext cx="276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ea typeface="Times New Roman"/>
              </a:rPr>
              <a:t>Atardecer otoñal</a:t>
            </a:r>
            <a:endParaRPr b="0" lang="en-US" sz="2400" spc="-1" strike="noStrike">
              <a:solidFill>
                <a:srgbClr val="000000"/>
              </a:solidFill>
              <a:latin typeface="Arial"/>
            </a:endParaRPr>
          </a:p>
        </p:txBody>
      </p:sp>
      <p:graphicFrame>
        <p:nvGraphicFramePr>
          <p:cNvPr id="129" name=""/>
          <p:cNvGraphicFramePr/>
          <p:nvPr/>
        </p:nvGraphicFramePr>
        <p:xfrm>
          <a:off x="2124000" y="4797360"/>
          <a:ext cx="5229360" cy="517680"/>
        </p:xfrm>
        <a:graphic>
          <a:graphicData uri="http://schemas.openxmlformats.org/drawingml/2006/table">
            <a:tbl>
              <a:tblPr/>
              <a:tblGrid>
                <a:gridCol w="746280"/>
                <a:gridCol w="747720"/>
                <a:gridCol w="74592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33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33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a0a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r>
            </a:tbl>
          </a:graphicData>
        </a:graphic>
      </p:graphicFrame>
      <p:sp>
        <p:nvSpPr>
          <p:cNvPr id="130" name=""/>
          <p:cNvSpPr/>
          <p:nvPr/>
        </p:nvSpPr>
        <p:spPr>
          <a:xfrm>
            <a:off x="708480" y="5443920"/>
            <a:ext cx="2523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ea typeface="Times New Roman"/>
              </a:rPr>
              <a:t>Fiesta de jardín</a:t>
            </a:r>
            <a:endParaRPr b="0" lang="en-US" sz="2400" spc="-1" strike="noStrike">
              <a:solidFill>
                <a:srgbClr val="000000"/>
              </a:solidFill>
              <a:latin typeface="Arial"/>
            </a:endParaRPr>
          </a:p>
        </p:txBody>
      </p:sp>
      <p:graphicFrame>
        <p:nvGraphicFramePr>
          <p:cNvPr id="131" name=""/>
          <p:cNvGraphicFramePr/>
          <p:nvPr/>
        </p:nvGraphicFramePr>
        <p:xfrm>
          <a:off x="2195640" y="5950080"/>
          <a:ext cx="5225760" cy="517320"/>
        </p:xfrm>
        <a:graphic>
          <a:graphicData uri="http://schemas.openxmlformats.org/drawingml/2006/table">
            <a:tbl>
              <a:tblPr/>
              <a:tblGrid>
                <a:gridCol w="707760"/>
                <a:gridCol w="707760"/>
                <a:gridCol w="708120"/>
                <a:gridCol w="708120"/>
                <a:gridCol w="708120"/>
                <a:gridCol w="707760"/>
                <a:gridCol w="9781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
        <p:nvSpPr>
          <p:cNvPr id="132" name=""/>
          <p:cNvSpPr/>
          <p:nvPr/>
        </p:nvSpPr>
        <p:spPr>
          <a:xfrm>
            <a:off x="0" y="501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3" name=""/>
          <p:cNvSpPr/>
          <p:nvPr/>
        </p:nvSpPr>
        <p:spPr>
          <a:xfrm>
            <a:off x="1835280" y="404640"/>
            <a:ext cx="7057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33cc"/>
                </a:solidFill>
                <a:latin typeface="Arial"/>
              </a:rPr>
              <a:t>Diagramas – Muestras de Colores</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BDF6AC5C-7A4D-4477-BB8B-FC16EE32B7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10920" y="2708280"/>
            <a:ext cx="7931160" cy="351792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Permita que la audiencia pueda ver y leer lo que usted ha escrito.</a:t>
            </a:r>
            <a:r>
              <a:rPr b="0" i="1" lang="es-ES" sz="3200" spc="-1" strike="noStrike">
                <a:solidFill>
                  <a:srgbClr val="3333cc"/>
                </a:solidFill>
                <a:latin typeface="Arial"/>
              </a:rPr>
              <a:t> </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De tiempo para que la audiencia copie lo que usted ha escrito</a:t>
            </a:r>
            <a:r>
              <a:rPr b="0" i="1" lang="es-ES" sz="3200" spc="-1" strike="noStrike">
                <a:solidFill>
                  <a:srgbClr val="3333cc"/>
                </a:solidFill>
                <a:latin typeface="Arial"/>
              </a:rPr>
              <a: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Organice su trabajo en la pizarra</a:t>
            </a:r>
            <a:r>
              <a:rPr b="0" i="1" lang="es-ES" sz="3200" spc="-1" strike="noStrike">
                <a:solidFill>
                  <a:srgbClr val="3333cc"/>
                </a:solidFill>
                <a:latin typeface="Arial"/>
              </a:rPr>
              <a:t>.</a:t>
            </a:r>
            <a:endParaRPr b="0" lang="en-US" sz="3200" spc="-1" strike="noStrike">
              <a:solidFill>
                <a:srgbClr val="000000"/>
              </a:solidFill>
              <a:latin typeface="Arial"/>
            </a:endParaRPr>
          </a:p>
        </p:txBody>
      </p:sp>
      <p:sp>
        <p:nvSpPr>
          <p:cNvPr id="135" name=""/>
          <p:cNvSpPr/>
          <p:nvPr/>
        </p:nvSpPr>
        <p:spPr>
          <a:xfrm>
            <a:off x="1908000" y="1052640"/>
            <a:ext cx="540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ndy"/>
              </a:rPr>
              <a:t>Cómo Utilizar Pizarrón para Tiza y para Fibra</a:t>
            </a:r>
            <a:endParaRPr b="0" lang="en-US" sz="3600" spc="-1" strike="noStrike">
              <a:solidFill>
                <a:srgbClr val="000000"/>
              </a:solidFill>
              <a:latin typeface="Arial"/>
            </a:endParaRPr>
          </a:p>
        </p:txBody>
      </p:sp>
      <p:sp>
        <p:nvSpPr>
          <p:cNvPr id="136" name=""/>
          <p:cNvSpPr/>
          <p:nvPr/>
        </p:nvSpPr>
        <p:spPr>
          <a:xfrm>
            <a:off x="1835280" y="2276640"/>
            <a:ext cx="46814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D85EF28-1E35-472A-8174-3A7869A40E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6840" y="2392200"/>
            <a:ext cx="8147160" cy="2981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l concepto de lección objetiva es muy simple: comunicar visualmente un solo pensamiento o idea de tal manera que sea recordado.</a:t>
            </a:r>
            <a:endParaRPr b="0" lang="en-US" sz="3200" spc="-1" strike="noStrike">
              <a:solidFill>
                <a:srgbClr val="000000"/>
              </a:solidFill>
              <a:latin typeface="Arial"/>
            </a:endParaRPr>
          </a:p>
        </p:txBody>
      </p:sp>
      <p:sp>
        <p:nvSpPr>
          <p:cNvPr id="138" name=""/>
          <p:cNvSpPr/>
          <p:nvPr/>
        </p:nvSpPr>
        <p:spPr>
          <a:xfrm>
            <a:off x="2771640" y="692280"/>
            <a:ext cx="511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Lecciones Objetivas</a:t>
            </a:r>
            <a:endParaRPr b="0" lang="en-US" sz="4000" spc="-1" strike="noStrike">
              <a:solidFill>
                <a:srgbClr val="000000"/>
              </a:solidFill>
              <a:latin typeface="Arial"/>
            </a:endParaRPr>
          </a:p>
        </p:txBody>
      </p:sp>
      <p:sp>
        <p:nvSpPr>
          <p:cNvPr id="139" name=""/>
          <p:cNvSpPr/>
          <p:nvPr/>
        </p:nvSpPr>
        <p:spPr>
          <a:xfrm>
            <a:off x="2340000" y="1628640"/>
            <a:ext cx="57610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7E71CA1-9944-43F5-A499-9FC417D88E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971280" y="1566360"/>
            <a:ext cx="7777080" cy="4526280"/>
          </a:xfrm>
          <a:prstGeom prst="rect">
            <a:avLst/>
          </a:prstGeom>
          <a:noFill/>
          <a:ln w="0">
            <a:noFill/>
          </a:ln>
        </p:spPr>
        <p:txBody>
          <a:bodyPr lIns="90000" rIns="90000" tIns="46800" bIns="46800" anchor="t">
            <a:normAutofit fontScale="92000"/>
          </a:bodyPr>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No predique</a:t>
            </a:r>
            <a:r>
              <a:rPr b="0" i="1" lang="es-ES" sz="2400" spc="-1" strike="noStrike">
                <a:solidFill>
                  <a:srgbClr val="3333cc"/>
                </a:solidFill>
                <a:latin typeface="Arial"/>
              </a:rPr>
              <a:t>!</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Use lenguaje sencillo</a:t>
            </a:r>
            <a:r>
              <a:rPr b="0" i="1" lang="es-ES" sz="2400" spc="-1" strike="noStrike">
                <a:solidFill>
                  <a:srgbClr val="3333cc"/>
                </a:solidFill>
                <a:latin typeface="Arial"/>
              </a:rPr>
              <a:t>. </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Introduzca primero el tema</a:t>
            </a:r>
            <a:r>
              <a:rPr b="0" i="1" lang="es-ES" sz="2400" spc="-1" strike="noStrike">
                <a:solidFill>
                  <a:srgbClr val="3333cc"/>
                </a:solidFill>
                <a:latin typeface="Arial"/>
              </a:rPr>
              <a:t>. </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Manténgase en el concepto de presentar solamente una idea o pensamiento. </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Use objetos comunes para comunicar verdades comunes.</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Haga el objetivo tan grande y visible como sea posible.</a:t>
            </a:r>
            <a:endParaRPr b="0" lang="en-US" sz="2400" spc="-1" strike="noStrike">
              <a:solidFill>
                <a:srgbClr val="000000"/>
              </a:solidFill>
              <a:latin typeface="Arial"/>
            </a:endParaRPr>
          </a:p>
        </p:txBody>
      </p:sp>
      <p:sp>
        <p:nvSpPr>
          <p:cNvPr id="141" name=""/>
          <p:cNvSpPr/>
          <p:nvPr/>
        </p:nvSpPr>
        <p:spPr>
          <a:xfrm>
            <a:off x="2843280" y="620640"/>
            <a:ext cx="4321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y"/>
              </a:rPr>
              <a:t>Pautas</a:t>
            </a:r>
            <a:endParaRPr b="0" lang="en-US" sz="4400" spc="-1" strike="noStrike">
              <a:solidFill>
                <a:srgbClr val="000000"/>
              </a:solidFill>
              <a:latin typeface="Arial"/>
            </a:endParaRPr>
          </a:p>
        </p:txBody>
      </p:sp>
      <p:sp>
        <p:nvSpPr>
          <p:cNvPr id="142" name=""/>
          <p:cNvSpPr/>
          <p:nvPr/>
        </p:nvSpPr>
        <p:spPr>
          <a:xfrm>
            <a:off x="2843280" y="1268280"/>
            <a:ext cx="5616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565E743-3A0A-409D-B422-5DCA688115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115640" y="1926720"/>
            <a:ext cx="7272360" cy="45262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Cuál es el mensaje/tema principal de toda la lección?</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Cuáles son los puntos que desea comunicar? (Tres puntos que desea hacer llegar a la audiencia mientras se hace la presentación).</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Qué puede ayudar a comunicar mejor cada punto?</a:t>
            </a:r>
            <a:endParaRPr b="0" lang="en-US" sz="3200" spc="-1" strike="noStrike">
              <a:solidFill>
                <a:srgbClr val="000000"/>
              </a:solidFill>
              <a:latin typeface="Arial"/>
            </a:endParaRPr>
          </a:p>
        </p:txBody>
      </p:sp>
      <p:sp>
        <p:nvSpPr>
          <p:cNvPr id="144" name=""/>
          <p:cNvSpPr/>
          <p:nvPr/>
        </p:nvSpPr>
        <p:spPr>
          <a:xfrm>
            <a:off x="1908000" y="438120"/>
            <a:ext cx="67694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ndy"/>
              </a:rPr>
              <a:t>Pasos Simples para Desarrollar Lecciones Objetivas:</a:t>
            </a:r>
            <a:endParaRPr b="0" lang="en-US" sz="3600" spc="-1" strike="noStrike">
              <a:solidFill>
                <a:srgbClr val="000000"/>
              </a:solidFill>
              <a:latin typeface="Arial"/>
            </a:endParaRPr>
          </a:p>
        </p:txBody>
      </p:sp>
      <p:sp>
        <p:nvSpPr>
          <p:cNvPr id="145" name=""/>
          <p:cNvSpPr/>
          <p:nvPr/>
        </p:nvSpPr>
        <p:spPr>
          <a:xfrm>
            <a:off x="2340000" y="1628640"/>
            <a:ext cx="61196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18F72B8-DC4A-4384-976A-E61B32AFB43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11280" y="1773360"/>
            <a:ext cx="8208720" cy="251928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lnSpc>
                <a:spcPct val="8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ogramos una atención más completa de la audiencia.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El oyente retiene mejor el mensaj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s ayudas visuales contribuyen a que sea más persuasivo.</a:t>
            </a:r>
            <a:endParaRPr b="0" lang="en-US" sz="2400" spc="-1" strike="noStrike">
              <a:solidFill>
                <a:srgbClr val="000000"/>
              </a:solidFill>
              <a:latin typeface="Arial"/>
            </a:endParaRPr>
          </a:p>
        </p:txBody>
      </p:sp>
      <p:sp>
        <p:nvSpPr>
          <p:cNvPr id="55" name=""/>
          <p:cNvSpPr/>
          <p:nvPr/>
        </p:nvSpPr>
        <p:spPr>
          <a:xfrm>
            <a:off x="2484360" y="620640"/>
            <a:ext cx="561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340000" y="260280"/>
            <a:ext cx="63356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Por qué Utilizar los Recursos Audiovisuales?</a:t>
            </a:r>
            <a:endParaRPr b="0" lang="en-US" sz="4400" spc="-1" strike="noStrike">
              <a:solidFill>
                <a:srgbClr val="000000"/>
              </a:solidFill>
              <a:latin typeface="Arial"/>
            </a:endParaRPr>
          </a:p>
        </p:txBody>
      </p:sp>
      <p:sp>
        <p:nvSpPr>
          <p:cNvPr id="57" name=""/>
          <p:cNvSpPr/>
          <p:nvPr/>
        </p:nvSpPr>
        <p:spPr>
          <a:xfrm>
            <a:off x="1547640" y="1700280"/>
            <a:ext cx="691200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4AB2C52-5A3C-4160-B823-F127336FA28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2339640" y="1052640"/>
            <a:ext cx="6264360" cy="4525920"/>
          </a:xfrm>
          <a:prstGeom prst="rect">
            <a:avLst/>
          </a:prstGeom>
          <a:noFill/>
          <a:ln w="0">
            <a:noFill/>
          </a:ln>
        </p:spPr>
        <p:txBody>
          <a:bodyPr lIns="90000" rIns="90000" tIns="46800" bIns="46800" anchor="t">
            <a:normAutofit/>
          </a:bodyPr>
          <a:p>
            <a:pPr marL="3430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   </a:t>
            </a:r>
            <a:r>
              <a:rPr b="1" i="1" lang="es-ES" sz="3200" spc="-1" strike="noStrike">
                <a:solidFill>
                  <a:srgbClr val="3333cc"/>
                </a:solidFill>
                <a:latin typeface="Arial"/>
              </a:rPr>
              <a:t>Jesús era hábil para señalar cosas en la naturaleza o de los alrededores, para ilustrar verdades espirituales. Un objeto puede ser un puente para la comprensión.</a:t>
            </a:r>
            <a:r>
              <a:rPr b="0" i="1" lang="es-ES" sz="3200" spc="-1" strike="noStrike">
                <a:solidFill>
                  <a:srgbClr val="3333cc"/>
                </a:solidFill>
                <a:latin typeface="Arial"/>
              </a:rPr>
              <a:t>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C759F02-A8B4-4147-925E-A6FCD5F91B7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476360" y="1628640"/>
            <a:ext cx="61308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    </a:t>
            </a:r>
            <a:r>
              <a:rPr b="1" i="1" lang="es-ES" sz="3200" spc="-1" strike="noStrike">
                <a:solidFill>
                  <a:srgbClr val="3333cc"/>
                </a:solidFill>
                <a:latin typeface="Arial"/>
              </a:rPr>
              <a:t>Cada vez que tenga que hablar, debiera analizar a sus oyentes y entonces decidir cómo presentar sus ideas; y qué clase de materiales son más apropiados para la ocasión.  </a:t>
            </a:r>
            <a:endParaRPr b="0" lang="en-US" sz="3200" spc="-1" strike="noStrike">
              <a:solidFill>
                <a:srgbClr val="000000"/>
              </a:solidFill>
              <a:latin typeface="Arial"/>
            </a:endParaRPr>
          </a:p>
        </p:txBody>
      </p:sp>
      <p:sp>
        <p:nvSpPr>
          <p:cNvPr id="148" name=""/>
          <p:cNvSpPr/>
          <p:nvPr/>
        </p:nvSpPr>
        <p:spPr>
          <a:xfrm>
            <a:off x="3059280" y="692280"/>
            <a:ext cx="403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La Audiencia</a:t>
            </a:r>
            <a:endParaRPr b="0" lang="en-US" sz="4400" spc="-1" strike="noStrike">
              <a:solidFill>
                <a:srgbClr val="000000"/>
              </a:solidFill>
              <a:latin typeface="Arial"/>
            </a:endParaRPr>
          </a:p>
        </p:txBody>
      </p:sp>
      <p:sp>
        <p:nvSpPr>
          <p:cNvPr id="149" name=""/>
          <p:cNvSpPr/>
          <p:nvPr/>
        </p:nvSpPr>
        <p:spPr>
          <a:xfrm>
            <a:off x="2268360" y="1413000"/>
            <a:ext cx="5472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7812308-8E6F-4110-81ED-C42EA2F4C2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86920" y="549360"/>
            <a:ext cx="7272360" cy="5904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000000"/>
                </a:solidFill>
                <a:latin typeface="Arial"/>
              </a:rPr>
              <a:t>Este análisis, podría incluir consideraciones relacionadas con:</a:t>
            </a:r>
            <a:endParaRPr b="0" lang="en-US" sz="2800" spc="-1" strike="noStrike">
              <a:solidFill>
                <a:srgbClr val="000000"/>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dad</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Sexo</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stado civil</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Raza</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Ubicación geográfica</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Membresía</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ducación</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Carrera</a:t>
            </a:r>
            <a:endParaRPr b="0" lang="en-US" sz="2800" spc="-1" strike="noStrike">
              <a:solidFill>
                <a:srgbClr val="000000"/>
              </a:solidFill>
              <a:latin typeface="Arial"/>
            </a:endParaRPr>
          </a:p>
        </p:txBody>
      </p:sp>
      <p:sp>
        <p:nvSpPr>
          <p:cNvPr id="151" name=""/>
          <p:cNvSpPr/>
          <p:nvPr/>
        </p:nvSpPr>
        <p:spPr>
          <a:xfrm>
            <a:off x="1763640" y="1628640"/>
            <a:ext cx="65534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2424C4C-4D10-4024-B49C-15A6EDC7ADC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72840" y="1600200"/>
            <a:ext cx="749916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Determine su propósito. 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Seleccione su tem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Investigue el tem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Analice su audiencia.</a:t>
            </a:r>
            <a:endParaRPr b="0" lang="en-US" sz="3200" spc="-1" strike="noStrike">
              <a:solidFill>
                <a:srgbClr val="000000"/>
              </a:solidFill>
              <a:latin typeface="Arial"/>
            </a:endParaRPr>
          </a:p>
        </p:txBody>
      </p:sp>
      <p:sp>
        <p:nvSpPr>
          <p:cNvPr id="153" name=""/>
          <p:cNvSpPr/>
          <p:nvPr/>
        </p:nvSpPr>
        <p:spPr>
          <a:xfrm>
            <a:off x="2268360" y="765000"/>
            <a:ext cx="5112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ndy"/>
              </a:rPr>
              <a:t>Conclusión</a:t>
            </a:r>
            <a:endParaRPr b="0" lang="en-US" sz="4800" spc="-1" strike="noStrike">
              <a:solidFill>
                <a:srgbClr val="000000"/>
              </a:solidFill>
              <a:latin typeface="Arial"/>
            </a:endParaRPr>
          </a:p>
        </p:txBody>
      </p:sp>
      <p:sp>
        <p:nvSpPr>
          <p:cNvPr id="154" name=""/>
          <p:cNvSpPr/>
          <p:nvPr/>
        </p:nvSpPr>
        <p:spPr>
          <a:xfrm>
            <a:off x="1763640" y="1557360"/>
            <a:ext cx="57610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14A5301-A074-4BF0-9B20-CD85694248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11280" y="1628280"/>
            <a:ext cx="8229600" cy="409428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Seleccione las ayudas audiovisuale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Prepare el material y practiqu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Presente su tema.</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Evalúe la respuesta de la audiencia.</a:t>
            </a:r>
            <a:endParaRPr b="0" lang="en-US" sz="3200" spc="-1" strike="noStrike">
              <a:solidFill>
                <a:srgbClr val="000000"/>
              </a:solidFill>
              <a:latin typeface="Arial"/>
            </a:endParaRPr>
          </a:p>
        </p:txBody>
      </p:sp>
      <p:sp>
        <p:nvSpPr>
          <p:cNvPr id="156" name=""/>
          <p:cNvSpPr/>
          <p:nvPr/>
        </p:nvSpPr>
        <p:spPr>
          <a:xfrm>
            <a:off x="3201840" y="549360"/>
            <a:ext cx="4034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ndy"/>
              </a:rPr>
              <a:t>Conclusión</a:t>
            </a:r>
            <a:endParaRPr b="0" lang="en-US" sz="4800" spc="-1" strike="noStrike">
              <a:solidFill>
                <a:srgbClr val="000000"/>
              </a:solidFill>
              <a:latin typeface="Arial"/>
            </a:endParaRPr>
          </a:p>
        </p:txBody>
      </p:sp>
      <p:sp>
        <p:nvSpPr>
          <p:cNvPr id="157" name=""/>
          <p:cNvSpPr/>
          <p:nvPr/>
        </p:nvSpPr>
        <p:spPr>
          <a:xfrm>
            <a:off x="2340000" y="1484280"/>
            <a:ext cx="57610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D78D9C3-220D-4E46-9703-76FBFD4D4FDA}"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539280" y="1628640"/>
            <a:ext cx="8280360" cy="1727280"/>
          </a:xfrm>
          <a:prstGeom prst="rect">
            <a:avLst/>
          </a:prstGeom>
          <a:noFill/>
          <a:ln w="0">
            <a:noFill/>
          </a:ln>
          <a:effectLst>
            <a:outerShdw dist="17819" dir="2700000" blurRad="0" rotWithShape="0">
              <a:srgbClr val="000000"/>
            </a:outerShdw>
          </a:effectLst>
        </p:spPr>
        <p:txBody>
          <a:bodyPr lIns="90000" rIns="90000" tIns="46800" bIns="46800" anchor="t">
            <a:normAutofit fontScale="76000"/>
          </a:bodyPr>
          <a:p>
            <a:pPr marL="260640" indent="-260640">
              <a:lnSpc>
                <a:spcPct val="110000"/>
              </a:lnSpc>
              <a:spcBef>
                <a:spcPts val="601"/>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El mensaje se transmite con mayor eficacia. </a:t>
            </a:r>
            <a:endParaRPr b="0" lang="en-US" sz="2400" spc="-1" strike="noStrike">
              <a:solidFill>
                <a:srgbClr val="000000"/>
              </a:solidFill>
              <a:latin typeface="Arial"/>
            </a:endParaRPr>
          </a:p>
          <a:p>
            <a:pPr marL="2606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0640" indent="-260640">
              <a:lnSpc>
                <a:spcPct val="110000"/>
              </a:lnSpc>
              <a:spcBef>
                <a:spcPts val="601"/>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 gente espera ver ayudas visuales. </a:t>
            </a:r>
            <a:endParaRPr b="0" lang="en-US" sz="2400" spc="-1" strike="noStrike">
              <a:solidFill>
                <a:srgbClr val="000000"/>
              </a:solidFill>
              <a:latin typeface="Arial"/>
            </a:endParaRPr>
          </a:p>
          <a:p>
            <a:pPr marL="2606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0640" indent="-260640">
              <a:lnSpc>
                <a:spcPct val="110000"/>
              </a:lnSpc>
              <a:spcBef>
                <a:spcPts val="601"/>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s ayudas visuales contribuyen a una presentación más organizada.</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9088F5F-C923-450F-A261-8CA9A98DF0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11280" y="1557360"/>
            <a:ext cx="8146800" cy="2735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s ayudas visuales añaden variedad y énfasis a su presentació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Su mensaje se presenta en forma oral y visual.</a:t>
            </a:r>
            <a:r>
              <a:rPr b="0" i="1" lang="es-ES" sz="2400" spc="-1" strike="noStrike">
                <a:solidFill>
                  <a:srgbClr val="2a69e8"/>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s ayudas visuales contribuyen a que sea más conciso.</a:t>
            </a:r>
            <a:r>
              <a:rPr b="0" i="1" lang="es-ES" sz="2400" spc="-1" strike="noStrike">
                <a:solidFill>
                  <a:srgbClr val="2a69e8"/>
                </a:solidFill>
                <a:latin typeface="Arial"/>
              </a:rPr>
              <a:t>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8F9A2AD-0328-46A5-BA6F-C1F3485EEC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94920" y="1412640"/>
            <a:ext cx="8280360" cy="517356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00"/>
                </a:solidFill>
                <a:latin typeface="Arial"/>
              </a:rPr>
              <a:t>   </a:t>
            </a:r>
            <a:r>
              <a:rPr b="1" i="1" lang="es-ES" sz="3200" spc="-1" strike="noStrike">
                <a:solidFill>
                  <a:srgbClr val="000000"/>
                </a:solidFill>
                <a:latin typeface="Arial"/>
              </a:rPr>
              <a:t>Estática</a:t>
            </a:r>
            <a:r>
              <a:rPr b="1" i="1" lang="es-ES" sz="2800" spc="-1" strike="noStrike">
                <a:solidFill>
                  <a:srgbClr val="000000"/>
                </a:solidFill>
                <a:latin typeface="Arial"/>
              </a:rPr>
              <a:t>:</a:t>
            </a:r>
            <a:r>
              <a:rPr b="1" i="1" lang="es-ES" sz="2800" spc="-1" strike="noStrike">
                <a:solidFill>
                  <a:srgbClr val="ffffff"/>
                </a:solidFill>
                <a:latin typeface="Arial"/>
              </a:rPr>
              <a:t>  </a:t>
            </a:r>
            <a:r>
              <a:rPr b="1" i="1" lang="es-ES" sz="2800" spc="-1" strike="noStrike">
                <a:solidFill>
                  <a:srgbClr val="2a69e8"/>
                </a:solidFill>
                <a:latin typeface="Arial"/>
              </a:rPr>
              <a:t>No la cambie durante la</a:t>
            </a:r>
            <a:r>
              <a:rPr b="1" i="1" lang="es-ES" sz="3200" spc="-1" strike="noStrike">
                <a:solidFill>
                  <a:srgbClr val="2a69e8"/>
                </a:solidFill>
                <a:latin typeface="Arial"/>
              </a:rPr>
              <a:t> </a:t>
            </a:r>
            <a:r>
              <a:rPr b="1" i="1" lang="es-ES" sz="2800" spc="-1" strike="noStrike">
                <a:solidFill>
                  <a:srgbClr val="2a69e8"/>
                </a:solidFill>
                <a:latin typeface="Arial"/>
              </a:rPr>
              <a:t>presentación</a:t>
            </a:r>
            <a:r>
              <a:rPr b="1" i="1" lang="es-ES" sz="3200" spc="-1" strike="noStrike">
                <a:solidFill>
                  <a:srgbClr val="2a69e8"/>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	</a:t>
            </a:r>
            <a:r>
              <a:rPr b="1" i="1" lang="es-ES" sz="3200" spc="-1" strike="noStrike">
                <a:solidFill>
                  <a:srgbClr val="000000"/>
                </a:solidFill>
                <a:latin typeface="Arial"/>
              </a:rPr>
              <a:t>Ejemplos</a:t>
            </a:r>
            <a:r>
              <a:rPr b="1" i="1" lang="es-ES" sz="3200" spc="-1" strike="noStrike">
                <a:solidFill>
                  <a:srgbClr val="ffffff"/>
                </a:solidFill>
                <a:latin typeface="Arial"/>
              </a:rPr>
              <a:t>:</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Carteles</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Retroproyectores</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Diapositivas</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Pizarra blanca</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Rotafolio</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Gráficos de computadora no animados</a:t>
            </a:r>
            <a:endParaRPr b="0" lang="en-US" sz="3200" spc="-1" strike="noStrike">
              <a:solidFill>
                <a:srgbClr val="000000"/>
              </a:solidFill>
              <a:latin typeface="Arial"/>
            </a:endParaRPr>
          </a:p>
        </p:txBody>
      </p:sp>
      <p:sp>
        <p:nvSpPr>
          <p:cNvPr id="61" name=""/>
          <p:cNvSpPr/>
          <p:nvPr/>
        </p:nvSpPr>
        <p:spPr>
          <a:xfrm>
            <a:off x="2340000" y="692280"/>
            <a:ext cx="41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ndy"/>
              </a:rPr>
              <a:t>Tipos de Audiovisuales</a:t>
            </a:r>
            <a:endParaRPr b="0" lang="en-US" sz="3600" spc="-1" strike="noStrike">
              <a:solidFill>
                <a:srgbClr val="000000"/>
              </a:solidFill>
              <a:latin typeface="Arial"/>
            </a:endParaRPr>
          </a:p>
        </p:txBody>
      </p:sp>
      <p:sp>
        <p:nvSpPr>
          <p:cNvPr id="62" name=""/>
          <p:cNvSpPr/>
          <p:nvPr/>
        </p:nvSpPr>
        <p:spPr>
          <a:xfrm>
            <a:off x="2268360" y="1268280"/>
            <a:ext cx="446436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1D03961-3B04-4EC1-B1A0-F31A1066F5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00120" y="1639800"/>
            <a:ext cx="785952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00"/>
                </a:solidFill>
                <a:latin typeface="Arial"/>
              </a:rPr>
              <a:t>	</a:t>
            </a:r>
            <a:r>
              <a:rPr b="1" i="1" lang="es-ES" sz="3200" spc="-1" strike="noStrike">
                <a:solidFill>
                  <a:srgbClr val="000000"/>
                </a:solidFill>
                <a:latin typeface="Arial"/>
              </a:rPr>
              <a:t>Dinámica</a:t>
            </a:r>
            <a:r>
              <a:rPr b="1" i="1" lang="es-ES" sz="3200" spc="-1" strike="noStrike">
                <a:solidFill>
                  <a:srgbClr val="ffffff"/>
                </a:solidFill>
                <a:latin typeface="Arial"/>
              </a:rPr>
              <a:t>: </a:t>
            </a:r>
            <a:r>
              <a:rPr b="1" i="1" lang="es-ES" sz="3200" spc="-1" strike="noStrike">
                <a:solidFill>
                  <a:srgbClr val="2a69e8"/>
                </a:solidFill>
                <a:latin typeface="Arial"/>
              </a:rPr>
              <a:t>cámbiela de alguna manera durante la presentación.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Video</a:t>
            </a:r>
            <a:endParaRPr b="0" lang="en-US" sz="32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Grabaciones</a:t>
            </a:r>
            <a:endParaRPr b="0" lang="en-US" sz="32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Gráficos de computadora animados</a:t>
            </a:r>
            <a:endParaRPr b="0" lang="en-US" sz="32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PowerPoint</a:t>
            </a:r>
            <a:endParaRPr b="0" lang="en-US" sz="32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Lecciones objetiva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268007EC-4CB7-47CE-A41B-3603839169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4000" y="1773360"/>
            <a:ext cx="8002440" cy="407664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	</a:t>
            </a:r>
            <a:r>
              <a:rPr b="1" i="1" lang="es-ES" sz="3200" spc="-1" strike="noStrike">
                <a:solidFill>
                  <a:srgbClr val="2a69e8"/>
                </a:solidFill>
                <a:latin typeface="Arial"/>
              </a:rPr>
              <a:t>Su elección de medios audio-visuales; debiera depender del tiempo disponible que tiene, del ambiente, y del tiempo que dispondrá para crear y practicar con ellos.  Seleccione un tipo que pueda manejar bien.</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4A3B90CB-E890-40C5-9299-F987E176C6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1T17:59:29Z</dcterms:created>
  <dc:creator>Manasses2</dc:creator>
  <dc:description/>
  <dc:language>en-US</dc:language>
  <cp:lastModifiedBy>Nelida Leguizamon</cp:lastModifiedBy>
  <dcterms:modified xsi:type="dcterms:W3CDTF">2006-06-09T15:24:04Z</dcterms:modified>
  <cp:revision>79</cp:revision>
  <dc:subject/>
  <dc:title>Slide 1</dc:title>
</cp:coreProperties>
</file>